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26.wmf" ContentType="image/x-wmf"/>
  <Override PartName="/ppt/media/image14.wmf" ContentType="image/x-wmf"/>
  <Override PartName="/ppt/media/image24.jpeg" ContentType="image/jpeg"/>
  <Override PartName="/ppt/media/image23.wmf" ContentType="image/x-wmf"/>
  <Override PartName="/ppt/media/image21.jpeg" ContentType="image/jpeg"/>
  <Override PartName="/ppt/media/image1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907588" cy="6858000"/>
  <p:notesSz cx="6835775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364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517176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3A6-2330-4D7B-B96C-EE28DD8A07C6}" type="slidenum">
              <a:rPr b="0" lang="pt-BR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91440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D6F-8369-4262-9AB6-C959FF1EBB2F}" type="slidenum">
              <a:rPr b="1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5171760" cy="3581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4F8-7FDC-4D45-A7F6-71CF4A66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E6F-45E7-4795-A305-7E9D6E03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041-5862-4766-8473-0138D811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A56-4D4D-4B8D-B0E8-177FB697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911D-DDF2-430A-B50C-065425C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7D7C-6373-4EFB-B862-5071F18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32F-D7AB-473F-AD6E-C8C9A413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49F-7ABD-4652-86FF-B1F5A3D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0CFB-76FC-4ABB-B2BC-CA665BD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A5C8-68BC-440D-81A9-05D5DEAF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4E4-FA38-4022-B2F6-2FFC54D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FF9-5903-4284-891D-5911FEFF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F13-44A6-4226-8C87-5C0DBB3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9AC5-EA79-4357-A2E7-4321A61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AF3-63FB-437C-895D-581A0D1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FA94-23D8-4DF9-89CE-403DBFCC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7138-ABC1-47B4-9B88-89B6C712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91F8-0FED-4646-A7AC-68CD240D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C390-E0E6-48D3-A51B-1FE31E1E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6E79-1618-45B1-B759-D12E890B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CE17-05FE-4E55-8A99-9465290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86C6-8DC4-49E5-B169-1279021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2C9-9432-42E0-BD7C-9358B79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DF4A-0FD4-41A3-BA5F-C17C9B8F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D931-FF25-4844-A73B-6C40A0B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E697-229C-4C5E-BE9F-8C074A7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24AC-F884-41BB-8705-12BB09C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870E-BAF4-4E92-A7D9-DD33698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46B9-C94D-4BCA-A9AF-4086DA33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D747-7012-4120-8D5E-503960F1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CDB4-0662-494E-98B4-08A11422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EA7D-FD8E-448E-B85E-5BC9F63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613F-96ED-4169-AA3E-58F6215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FCD-7584-488E-85B8-28212A9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E125-6946-4E58-B971-2640475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04C7-F9DB-4EA9-8C8B-92BA2FD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3112-670E-4970-A179-CA773D58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A94F-3F6A-4FE2-9892-237C1B0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834E-61F0-467E-864A-9222B2B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9E70-7658-4EA6-B5F1-48A77E0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E6C2-6739-4C5A-9CDF-93BB065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7AEF-0035-4FDA-BF9B-062D62CC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88A0-39C1-4EF4-BE8F-99E17D55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B433-0F5A-47C7-BF10-9108971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124-DEF5-48ED-84F6-C22E61E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6433F-30D8-47AA-B127-AC37501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27410-A847-49D4-A106-21485B6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63834-F629-4D4A-BA9E-4DCD9BC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2CE5-1DD0-44D7-8F2A-51970F8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7F64-83A6-4DF6-83BA-54C15072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E3F2-6409-44FA-83C5-E99D339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BA27-3B04-4A7C-82DA-5D39931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2F89-351A-4E67-B0EF-1230BA9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E72C-24AA-403B-AAD5-7AAAB655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16DA-9C61-46B7-9397-26719C5F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42D-3B03-4551-8FAE-31D8D3C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333E-920A-41B9-A500-D15638C5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450E8-CBAF-4CC4-93B5-1A71369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18B1-9E18-4192-A8BB-BFD25D35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32A1-D406-476C-9504-BD9B60B5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47466-09EA-4652-824C-C51775B3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D993-B0A6-418A-9D9A-22AC1EE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B3ED-F17D-4B5B-9D24-8EFABB8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B868-C13B-4D02-9F70-04DEEE4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B1B6-C827-478F-BA72-10049F8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047B-2B04-40F6-982E-8C713E3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1E4-4601-4879-AE89-B38CD69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F2A1-C497-4E98-967D-3A52844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03C2-2C04-4BC7-9CF2-E0CA71F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0119-AE24-4159-A3A4-83886234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0A1E5-1B62-4210-A0D8-C2258073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4BC0-09D3-457D-9819-4531E8D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18126-9601-4099-B8B4-66AE4B3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DCD9F-BE91-40D0-A45E-5C94A4A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F542-E5E9-40BE-9B2D-1B34BC9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43DA-B966-4976-8E78-6233131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137B-D9BD-477D-A94E-197168D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7ED-8C16-45DB-B2D5-2E10BAC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5745-F57C-47B8-A7D9-B14BBA3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8805-2F2F-40C6-89FD-0FBC409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05FC-E596-44A0-AAD7-7AE3DED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8F19-0B8C-47BD-90F0-DC6B7C4A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495E-2F4A-4261-9D69-6839A2AE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1904-B734-45FC-B4F7-20D413D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ED85B-DBDB-4860-88B0-74F1166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2E6F7-74B9-4147-9684-36C3ED2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61E6-ACCA-4FFA-B23F-3E26AE8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067D-8925-4BBD-A111-54FF58A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2C5-987C-47CD-9BB3-2CE99E2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9B31-E705-447D-926D-876D839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17A6-D8DB-4241-8182-02233F4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D9504-1698-43EC-94B9-E8F9A49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2F49-92DD-4DDE-B2C7-EDF964C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1AB4-A5AD-40AF-9A9E-568272BA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3AB8-F3B6-4136-A05A-BA9B4CC7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010E-BBEF-47E7-8711-368BEC7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4A60-D196-463C-B3B0-AC514880382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9140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4680" y="4952880"/>
            <a:ext cx="9910800" cy="1911600"/>
            <a:chOff x="-4680" y="4952880"/>
            <a:chExt cx="991080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833120" y="4952880"/>
              <a:ext cx="8073000" cy="487440"/>
            </a:xfrm>
            <a:custGeom>
              <a:avLst/>
              <a:gdLst>
                <a:gd name="textAreaLeft" fmla="*/ 0 w 8073000"/>
                <a:gd name="textAreaRight" fmla="*/ 8073360 w 80730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920"/>
              <a:ext cx="9860760" cy="789120"/>
            </a:xfrm>
            <a:custGeom>
              <a:avLst/>
              <a:gdLst>
                <a:gd name="textAreaLeft" fmla="*/ 0 w 9860760"/>
                <a:gd name="textAreaRight" fmla="*/ 9861120 w 986076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7200" y="4998600"/>
              <a:ext cx="9898920" cy="1865880"/>
              <a:chOff x="7200" y="4998600"/>
              <a:chExt cx="9898920" cy="186588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60" y="4998600"/>
                <a:ext cx="98985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2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4680" y="4992480"/>
              <a:ext cx="991080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037D-D827-4C8D-BD19-A46442B44308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94020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738600" y="300528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2F2-C4A9-4E13-9927-EEC6BDEBD2FA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147-78D8-4378-98E1-8E94E9D3C952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6713-2A5D-46F2-AD9A-0F091C4AF6B8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1859-E94C-4F79-A90A-7DD9A562413B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0442-1618-4C38-9CA7-8E04D4684F8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6480" y="5791320"/>
            <a:ext cx="3687840" cy="1079280"/>
            <a:chOff x="-6480" y="5791320"/>
            <a:chExt cx="3687840" cy="107928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687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70044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9387000" y="4987800"/>
            <a:ext cx="196560" cy="228600"/>
          </a:xfrm>
          <a:custGeom>
            <a:avLst/>
            <a:gdLst>
              <a:gd name="textAreaLeft" fmla="*/ 0 w 196560"/>
              <a:gd name="textAreaRight" fmla="*/ 196920 w 19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9183600" y="498780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130000"/>
              </a:lnSpc>
              <a:spcBef>
                <a:spcPts val="624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EC89-9131-4A05-AE50-819D60C39488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2360520" y="1359000"/>
            <a:ext cx="5451480" cy="1380960"/>
          </a:xfrm>
          <a:prstGeom prst="rect">
            <a:avLst/>
          </a:prstGeom>
          <a:ln w="0">
            <a:noFill/>
          </a:ln>
        </p:spPr>
      </p:pic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781200" y="2901960"/>
            <a:ext cx="8478720" cy="1305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 rot="19435800">
            <a:off x="47520" y="786960"/>
            <a:ext cx="3302280" cy="1143000"/>
          </a:xfrm>
          <a:custGeom>
            <a:avLst/>
            <a:gdLst>
              <a:gd name="textAreaLeft" fmla="*/ 412560 w 3302280"/>
              <a:gd name="textAreaRight" fmla="*/ 2889720 w 330228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genharia de 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dução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flipH="1" rot="2164200">
            <a:off x="6793920" y="786960"/>
            <a:ext cx="3301920" cy="1143000"/>
          </a:xfrm>
          <a:custGeom>
            <a:avLst/>
            <a:gdLst>
              <a:gd name="textAreaLeft" fmla="*/ 412560 w 3301920"/>
              <a:gd name="textAreaRight" fmla="*/ 2889360 w 330192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Logístic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ntegrad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562480" y="4292640"/>
            <a:ext cx="480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Prof. Luciel Henrique de Oliveira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uciel@fae.br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7812000" y="5032440"/>
            <a:ext cx="14018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7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36440" y="1305000"/>
            <a:ext cx="963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80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962000" y="907920"/>
            <a:ext cx="60008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84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85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1136520" y="981000"/>
            <a:ext cx="6553440" cy="4862520"/>
          </a:xfrm>
          <a:prstGeom prst="rect">
            <a:avLst/>
          </a:prstGeom>
          <a:ln w="0">
            <a:noFill/>
          </a:ln>
        </p:spPr>
      </p:pic>
      <p:sp>
        <p:nvSpPr>
          <p:cNvPr id="487" name="CaixaDeTexto 1"/>
          <p:cNvSpPr/>
          <p:nvPr/>
        </p:nvSpPr>
        <p:spPr>
          <a:xfrm>
            <a:off x="3458880" y="598644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62329"/>
                </a:solidFill>
                <a:latin typeface="Tahoma"/>
              </a:rPr>
              <a:t>Processograma industria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8" name="Seta para a direita 5"/>
          <p:cNvSpPr/>
          <p:nvPr/>
        </p:nvSpPr>
        <p:spPr>
          <a:xfrm>
            <a:off x="8121600" y="2924280"/>
            <a:ext cx="1631880" cy="865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90440" y="20520"/>
            <a:ext cx="9515520" cy="67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9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9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51200" y="797040"/>
            <a:ext cx="505296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95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96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97" name="Picture 5" descr="Modelo de Árvore de Processos"/>
          <p:cNvPicPr/>
          <p:nvPr/>
        </p:nvPicPr>
        <p:blipFill>
          <a:blip r:embed="rId1"/>
          <a:stretch/>
        </p:blipFill>
        <p:spPr>
          <a:xfrm>
            <a:off x="0" y="647640"/>
            <a:ext cx="97534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5105520" y="23414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119"/>
              </a:buClr>
              <a:buSzPct val="68000"/>
              <a:buFont typeface="Tahom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8119"/>
                </a:solidFill>
                <a:latin typeface="Tahoma"/>
                <a:ea typeface="Arial"/>
              </a:rPr>
              <a:t>    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00" name="Rectangle 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S NECESSIDADES E EXPECTATIVAS DOS CLIENTE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02" name="Text Box 6"/>
          <p:cNvSpPr/>
          <p:nvPr/>
        </p:nvSpPr>
        <p:spPr>
          <a:xfrm>
            <a:off x="304920" y="914400"/>
            <a:ext cx="9219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O CLIENTE TEM NECESSIDADES E EXPECTATIVAS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228600" y="1852560"/>
            <a:ext cx="94489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cc0000"/>
                </a:solidFill>
                <a:latin typeface="Tahoma"/>
              </a:rPr>
              <a:t>Necessidades</a:t>
            </a:r>
            <a:r>
              <a:rPr b="1" lang="pt-BR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– algo que o cliente quer que seja atendido</a:t>
            </a:r>
            <a:br>
              <a:rPr sz="2500"/>
            </a:b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                            e, em geral, declara.</a:t>
            </a:r>
            <a:endParaRPr b="1" lang="en-US" sz="25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cc0000"/>
                </a:solidFill>
                <a:latin typeface="Tahoma"/>
              </a:rPr>
              <a:t>Expectativas</a:t>
            </a:r>
            <a:r>
              <a:rPr b="1" lang="pt-BR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– outras coisas que o cliente quer obter,</a:t>
            </a:r>
            <a:br>
              <a:rPr sz="2500"/>
            </a:br>
            <a:r>
              <a:rPr b="1" lang="pt-BR" sz="2500" spc="-1" strike="noStrike">
                <a:solidFill>
                  <a:srgbClr val="165160"/>
                </a:solidFill>
                <a:latin typeface="Tahoma"/>
              </a:rPr>
              <a:t>                          mas não explicita.</a:t>
            </a:r>
            <a:endParaRPr b="1" lang="en-US" sz="2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304920" y="4238640"/>
            <a:ext cx="921996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165160"/>
                </a:solidFill>
                <a:latin typeface="Tahoma"/>
              </a:rPr>
              <a:t>Como conhecer as necessidades e expectativas dos clientes?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Tahoma"/>
              </a:rPr>
              <a:t>Perguntando ao cliente e validando continuamente após cada processo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6095880" y="1662120"/>
            <a:ext cx="3048120" cy="1295280"/>
            <a:chOff x="6095880" y="1662120"/>
            <a:chExt cx="3048120" cy="1295280"/>
          </a:xfrm>
        </p:grpSpPr>
        <p:sp>
          <p:nvSpPr>
            <p:cNvPr id="506" name="Rectangle 3"/>
            <p:cNvSpPr/>
            <p:nvPr/>
          </p:nvSpPr>
          <p:spPr>
            <a:xfrm>
              <a:off x="6095880" y="1662120"/>
              <a:ext cx="3048120" cy="1295280"/>
            </a:xfrm>
            <a:prstGeom prst="rect">
              <a:avLst/>
            </a:prstGeom>
            <a:solidFill>
              <a:srgbClr val="000099"/>
            </a:solidFill>
            <a:ln w="2844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07" name="Text Box 4"/>
            <p:cNvSpPr/>
            <p:nvPr/>
          </p:nvSpPr>
          <p:spPr>
            <a:xfrm>
              <a:off x="6543720" y="208836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Tahoma"/>
                </a:rPr>
                <a:t>CLIENTE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08" name="Group 5"/>
          <p:cNvGrpSpPr/>
          <p:nvPr/>
        </p:nvGrpSpPr>
        <p:grpSpPr>
          <a:xfrm>
            <a:off x="762120" y="1662120"/>
            <a:ext cx="3047760" cy="1295280"/>
            <a:chOff x="762120" y="1662120"/>
            <a:chExt cx="3047760" cy="1295280"/>
          </a:xfrm>
        </p:grpSpPr>
        <p:sp>
          <p:nvSpPr>
            <p:cNvPr id="509" name="Rectangle 6"/>
            <p:cNvSpPr/>
            <p:nvPr/>
          </p:nvSpPr>
          <p:spPr>
            <a:xfrm>
              <a:off x="762120" y="1662120"/>
              <a:ext cx="3047760" cy="1295280"/>
            </a:xfrm>
            <a:prstGeom prst="rect">
              <a:avLst/>
            </a:prstGeom>
            <a:solidFill>
              <a:srgbClr val="000099"/>
            </a:solidFill>
            <a:ln w="2844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803160" y="2088360"/>
              <a:ext cx="29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Tahoma"/>
                </a:rPr>
                <a:t>FORNECEDOR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1" name="Group 8"/>
          <p:cNvGrpSpPr/>
          <p:nvPr/>
        </p:nvGrpSpPr>
        <p:grpSpPr>
          <a:xfrm>
            <a:off x="3602880" y="2881080"/>
            <a:ext cx="2733480" cy="2459160"/>
            <a:chOff x="3602880" y="2881080"/>
            <a:chExt cx="2733480" cy="2459160"/>
          </a:xfrm>
        </p:grpSpPr>
        <p:sp>
          <p:nvSpPr>
            <p:cNvPr id="512" name="Line 9"/>
            <p:cNvSpPr/>
            <p:nvPr/>
          </p:nvSpPr>
          <p:spPr>
            <a:xfrm flipV="1">
              <a:off x="4876920" y="2881080"/>
              <a:ext cx="0" cy="16002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3602880" y="4402440"/>
              <a:ext cx="273348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800" spc="-1" strike="noStrike">
                  <a:solidFill>
                    <a:srgbClr val="cc0000"/>
                  </a:solidFill>
                  <a:latin typeface="Tahoma"/>
                </a:rPr>
                <a:t>CONTRAT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cc0000"/>
                  </a:solidFill>
                  <a:latin typeface="Tahoma"/>
                </a:rPr>
                <a:t>(obrigações bilaterais)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3809520" y="1661400"/>
            <a:ext cx="2210040" cy="457920"/>
            <a:chOff x="3809520" y="1661400"/>
            <a:chExt cx="2210040" cy="457920"/>
          </a:xfrm>
        </p:grpSpPr>
        <p:sp>
          <p:nvSpPr>
            <p:cNvPr id="515" name="Text Box 12"/>
            <p:cNvSpPr/>
            <p:nvPr/>
          </p:nvSpPr>
          <p:spPr>
            <a:xfrm>
              <a:off x="4089240" y="166140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99"/>
                  </a:solidFill>
                  <a:latin typeface="Tahoma"/>
                </a:rPr>
                <a:t>necessidade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6" name="Line 13"/>
            <p:cNvSpPr/>
            <p:nvPr/>
          </p:nvSpPr>
          <p:spPr>
            <a:xfrm flipH="1">
              <a:off x="3809520" y="2119320"/>
              <a:ext cx="22100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517" name="Group 14"/>
          <p:cNvGrpSpPr/>
          <p:nvPr/>
        </p:nvGrpSpPr>
        <p:grpSpPr>
          <a:xfrm>
            <a:off x="3849840" y="2576520"/>
            <a:ext cx="2208240" cy="381960"/>
            <a:chOff x="3849840" y="2576520"/>
            <a:chExt cx="2208240" cy="381960"/>
          </a:xfrm>
        </p:grpSpPr>
        <p:sp>
          <p:nvSpPr>
            <p:cNvPr id="518" name="Line 15"/>
            <p:cNvSpPr/>
            <p:nvPr/>
          </p:nvSpPr>
          <p:spPr>
            <a:xfrm>
              <a:off x="3849840" y="2576520"/>
              <a:ext cx="22082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19" name="Text Box 16"/>
            <p:cNvSpPr/>
            <p:nvPr/>
          </p:nvSpPr>
          <p:spPr>
            <a:xfrm>
              <a:off x="4308120" y="259020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99"/>
                  </a:solidFill>
                  <a:latin typeface="Tahoma"/>
                </a:rPr>
                <a:t>requisito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20" name="Text Box 17"/>
          <p:cNvSpPr/>
          <p:nvPr/>
        </p:nvSpPr>
        <p:spPr>
          <a:xfrm>
            <a:off x="2640240" y="5445000"/>
            <a:ext cx="6855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Clientes externos - não pertencentes à organização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Clientes internos - funcionários da organizaçã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21" name="Group 18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22" name="Rectangle 19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LAÇÃO CLIENTE X FORNECEDOR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25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S NECESSIDADES E EXPECTATIVAS DOS CLIENTE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527" name="Picture 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458200" cy="11635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304920" y="914400"/>
            <a:ext cx="92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ara cada elo da cadeia de processos, formada a partir do cliente, os requisitos vão sendo estabelecidos sucessivamente “a montante”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304920" y="3657600"/>
            <a:ext cx="92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ahoma"/>
              </a:rPr>
              <a:t>Os processos internos são realizados no sentido “a jusante”, produzindo qualidade, em conformidade com os requisito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2"/>
          <a:stretch/>
        </p:blipFill>
        <p:spPr>
          <a:xfrm>
            <a:off x="762120" y="4905360"/>
            <a:ext cx="84582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0" y="981000"/>
            <a:ext cx="9372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ahoma"/>
              </a:rPr>
              <a:t>Necessidades das organizações que a abordagem funcional não atende: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1136520" y="2262240"/>
            <a:ext cx="84250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Harmonização das inter-relações entre as área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Comunicação oportuna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Autoridade para quem age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Fluxo do processo compatível com as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necessidades dos cliente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Ciclos de processos menores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Eliminação de processos que não 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agregam valor;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Pessoas realizando processos </a:t>
            </a:r>
            <a:br>
              <a:rPr sz="2400"/>
            </a:br>
            <a:r>
              <a:rPr b="1" lang="pt-BR" sz="2400" spc="-1" strike="noStrike">
                <a:solidFill>
                  <a:srgbClr val="165160"/>
                </a:solidFill>
                <a:latin typeface="Tahoma"/>
              </a:rPr>
              <a:t>  de forma estruturada. 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3" name="Picture 4" descr="figura moca cansada"/>
          <p:cNvPicPr/>
          <p:nvPr/>
        </p:nvPicPr>
        <p:blipFill>
          <a:blip r:embed="rId1"/>
          <a:stretch/>
        </p:blipFill>
        <p:spPr>
          <a:xfrm>
            <a:off x="6858000" y="3505320"/>
            <a:ext cx="2371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35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36" name="Rectangle 7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FUNCIONAL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2162160" y="1371600"/>
            <a:ext cx="6553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Arial"/>
              </a:rPr>
              <a:t>Gestão por Processos</a:t>
            </a:r>
            <a:endParaRPr b="1" lang="en-US" sz="6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2050920" y="4653000"/>
            <a:ext cx="6629400" cy="0"/>
          </a:xfrm>
          <a:prstGeom prst="line">
            <a:avLst/>
          </a:prstGeom>
          <a:ln cap="sq"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488880" y="406872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apeamento e Modelagem de Processo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8532720" y="6597720"/>
            <a:ext cx="611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9F8-2B2C-4BE8-A131-0661DA7C9613}" type="slidenum">
              <a:rPr b="1" lang="pt-BR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14480" y="65977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  <a:ea typeface="Arial"/>
              </a:rPr>
              <a:t>Gestão por Processos</a:t>
            </a:r>
            <a:endParaRPr b="1" lang="en-US" sz="1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836640"/>
            <a:ext cx="9372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Tahoma"/>
              </a:rPr>
              <a:t>Limitações da estrutura funcional: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533520" y="1484280"/>
            <a:ext cx="914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Viés fortemente hierárquic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Viés fun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mostra flux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mostra as necessidades de inter-relaçõ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Permite “buracos negros” na relação  interfun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Não foca o cliente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Tempos de ciclos de processos muito long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Pessoas realizam seus trabalhos “olhando para o umbigo”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165160"/>
                </a:solidFill>
                <a:latin typeface="Tahoma"/>
              </a:rPr>
              <a:t>Existência de processos inúteis, sem serem questionad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40" name="Rectangle 5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FUNCIONAL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685800" y="2209680"/>
            <a:ext cx="28195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O FOCO  ESTÁ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NAS </a:t>
            </a:r>
            <a:r>
              <a:rPr b="1" i="1" lang="pt-BR" sz="2800" spc="-1" strike="noStrike" u="sng">
                <a:solidFill>
                  <a:srgbClr val="165160"/>
                </a:solidFill>
                <a:uFillTx/>
                <a:latin typeface="Arial"/>
              </a:rPr>
              <a:t>ÁREAS</a:t>
            </a:r>
            <a:r>
              <a:rPr b="1" i="1" lang="pt-BR" sz="2800" spc="-1" strike="noStrike">
                <a:solidFill>
                  <a:srgbClr val="165160"/>
                </a:solidFill>
                <a:latin typeface="Arial"/>
              </a:rPr>
              <a:t> DA EMPRESA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3" name="Group 3"/>
          <p:cNvGrpSpPr/>
          <p:nvPr/>
        </p:nvGrpSpPr>
        <p:grpSpPr>
          <a:xfrm>
            <a:off x="4127400" y="1219320"/>
            <a:ext cx="5206680" cy="4572000"/>
            <a:chOff x="4127400" y="1219320"/>
            <a:chExt cx="5206680" cy="4572000"/>
          </a:xfrm>
        </p:grpSpPr>
        <p:sp>
          <p:nvSpPr>
            <p:cNvPr id="544" name="AutoShape 4"/>
            <p:cNvSpPr/>
            <p:nvPr/>
          </p:nvSpPr>
          <p:spPr>
            <a:xfrm>
              <a:off x="5895000" y="2530440"/>
              <a:ext cx="1275840" cy="3187800"/>
            </a:xfrm>
            <a:prstGeom prst="downArrow">
              <a:avLst>
                <a:gd name="adj1" fmla="val 50000"/>
                <a:gd name="adj2" fmla="val 97421"/>
              </a:avLst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5" name="AutoShape 5"/>
            <p:cNvSpPr/>
            <p:nvPr/>
          </p:nvSpPr>
          <p:spPr>
            <a:xfrm>
              <a:off x="7617960" y="2530440"/>
              <a:ext cx="1285920" cy="3187800"/>
            </a:xfrm>
            <a:prstGeom prst="downArrow">
              <a:avLst>
                <a:gd name="adj1" fmla="val 50000"/>
                <a:gd name="adj2" fmla="val 98873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46" name="AutoShape 6"/>
            <p:cNvSpPr/>
            <p:nvPr/>
          </p:nvSpPr>
          <p:spPr>
            <a:xfrm>
              <a:off x="4130640" y="2530440"/>
              <a:ext cx="1244520" cy="3187800"/>
            </a:xfrm>
            <a:prstGeom prst="downArrow">
              <a:avLst>
                <a:gd name="adj1" fmla="val 50000"/>
                <a:gd name="adj2" fmla="val 99873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pic>
          <p:nvPicPr>
            <p:cNvPr id="547" name="Picture 7" descr=""/>
            <p:cNvPicPr/>
            <p:nvPr/>
          </p:nvPicPr>
          <p:blipFill>
            <a:blip r:embed="rId1"/>
            <a:stretch/>
          </p:blipFill>
          <p:spPr>
            <a:xfrm>
              <a:off x="4144320" y="1219320"/>
              <a:ext cx="5189760" cy="29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8" descr=""/>
            <p:cNvPicPr/>
            <p:nvPr/>
          </p:nvPicPr>
          <p:blipFill>
            <a:blip r:embed="rId2"/>
            <a:stretch/>
          </p:blipFill>
          <p:spPr>
            <a:xfrm>
              <a:off x="412740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9" descr=""/>
            <p:cNvPicPr/>
            <p:nvPr/>
          </p:nvPicPr>
          <p:blipFill>
            <a:blip r:embed="rId3"/>
            <a:stretch/>
          </p:blipFill>
          <p:spPr>
            <a:xfrm>
              <a:off x="587916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0" descr=""/>
            <p:cNvPicPr/>
            <p:nvPr/>
          </p:nvPicPr>
          <p:blipFill>
            <a:blip r:embed="rId4"/>
            <a:stretch/>
          </p:blipFill>
          <p:spPr>
            <a:xfrm>
              <a:off x="7631640" y="4476600"/>
              <a:ext cx="1191600" cy="131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1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52" name="Rectangle 12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53" name="Rectangle 13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VISÃO FUNCIONAL DA ORGANIZAÇÃ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367080" y="2568600"/>
            <a:ext cx="5852880" cy="3755880"/>
            <a:chOff x="3367080" y="2568600"/>
            <a:chExt cx="5852880" cy="3755880"/>
          </a:xfrm>
        </p:grpSpPr>
        <p:sp>
          <p:nvSpPr>
            <p:cNvPr id="555" name="AutoShape 3"/>
            <p:cNvSpPr/>
            <p:nvPr/>
          </p:nvSpPr>
          <p:spPr>
            <a:xfrm>
              <a:off x="3568320" y="2568600"/>
              <a:ext cx="5651640" cy="3755880"/>
            </a:xfrm>
            <a:prstGeom prst="rightArrow">
              <a:avLst>
                <a:gd name="adj1" fmla="val 50000"/>
                <a:gd name="adj2" fmla="val 34637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pic>
          <p:nvPicPr>
            <p:cNvPr id="556" name="Picture 4" descr=""/>
            <p:cNvPicPr/>
            <p:nvPr/>
          </p:nvPicPr>
          <p:blipFill>
            <a:blip r:embed="rId1"/>
            <a:stretch/>
          </p:blipFill>
          <p:spPr>
            <a:xfrm>
              <a:off x="3367080" y="3350880"/>
              <a:ext cx="4692240" cy="22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Group 5"/>
            <p:cNvGrpSpPr/>
            <p:nvPr/>
          </p:nvGrpSpPr>
          <p:grpSpPr>
            <a:xfrm>
              <a:off x="3643920" y="3267000"/>
              <a:ext cx="3644280" cy="2280240"/>
              <a:chOff x="3643920" y="3267000"/>
              <a:chExt cx="3644280" cy="2280240"/>
            </a:xfrm>
          </p:grpSpPr>
          <p:sp>
            <p:nvSpPr>
              <p:cNvPr id="558" name="Freeform 6"/>
              <p:cNvSpPr/>
              <p:nvPr/>
            </p:nvSpPr>
            <p:spPr>
              <a:xfrm>
                <a:off x="3643920" y="4155480"/>
                <a:ext cx="446760" cy="5713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0" h="360">
                    <a:moveTo>
                      <a:pt x="0" y="315"/>
                    </a:moveTo>
                    <a:lnTo>
                      <a:pt x="0" y="43"/>
                    </a:lnTo>
                    <a:lnTo>
                      <a:pt x="129" y="0"/>
                    </a:lnTo>
                    <a:lnTo>
                      <a:pt x="259" y="43"/>
                    </a:lnTo>
                    <a:lnTo>
                      <a:pt x="259" y="315"/>
                    </a:lnTo>
                    <a:lnTo>
                      <a:pt x="129" y="359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5024880" y="4155480"/>
                <a:ext cx="450360" cy="5713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2" h="360">
                    <a:moveTo>
                      <a:pt x="0" y="315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5"/>
                    </a:lnTo>
                    <a:lnTo>
                      <a:pt x="130" y="359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6837840" y="4976280"/>
                <a:ext cx="450360" cy="57096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262" h="360">
                    <a:moveTo>
                      <a:pt x="0" y="316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6"/>
                    </a:lnTo>
                    <a:lnTo>
                      <a:pt x="130" y="359"/>
                    </a:lnTo>
                    <a:lnTo>
                      <a:pt x="0" y="316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1" name="Freeform 9"/>
              <p:cNvSpPr/>
              <p:nvPr/>
            </p:nvSpPr>
            <p:spPr>
              <a:xfrm>
                <a:off x="6837840" y="3267000"/>
                <a:ext cx="450360" cy="5695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262" h="359">
                    <a:moveTo>
                      <a:pt x="0" y="315"/>
                    </a:moveTo>
                    <a:lnTo>
                      <a:pt x="0" y="43"/>
                    </a:lnTo>
                    <a:lnTo>
                      <a:pt x="130" y="0"/>
                    </a:lnTo>
                    <a:lnTo>
                      <a:pt x="261" y="43"/>
                    </a:lnTo>
                    <a:lnTo>
                      <a:pt x="261" y="315"/>
                    </a:lnTo>
                    <a:lnTo>
                      <a:pt x="130" y="358"/>
                    </a:lnTo>
                    <a:lnTo>
                      <a:pt x="0" y="315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2" name="AutoShape 10"/>
              <p:cNvSpPr/>
              <p:nvPr/>
            </p:nvSpPr>
            <p:spPr>
              <a:xfrm>
                <a:off x="4340520" y="4164840"/>
                <a:ext cx="433080" cy="553680"/>
              </a:xfrm>
              <a:custGeom>
                <a:avLst/>
                <a:gdLst>
                  <a:gd name="textAreaLeft" fmla="*/ 19080 w 433080"/>
                  <a:gd name="textAreaRight" fmla="*/ 414000 w 433080"/>
                  <a:gd name="textAreaTop" fmla="*/ 19080 h 553680"/>
                  <a:gd name="textAreaBottom" fmla="*/ 534600 h 553680"/>
                </a:gdLst>
                <a:ahLst/>
                <a:rect l="textAreaLeft" t="textAreaTop" r="textAreaRight" b="textAreaBottom"/>
                <a:pathLst>
                  <a:path w="21600" h="27610">
                    <a:moveTo>
                      <a:pt x="3276" y="0"/>
                    </a:moveTo>
                    <a:arcTo wR="3276" hR="3276" stAng="16200000" swAng="-5400000"/>
                    <a:lnTo>
                      <a:pt x="0" y="24334"/>
                    </a:lnTo>
                    <a:arcTo wR="3276" hR="3276" stAng="10800000" swAng="-5400000"/>
                    <a:lnTo>
                      <a:pt x="18324" y="27610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3" name="AutoShape 11"/>
              <p:cNvSpPr/>
              <p:nvPr/>
            </p:nvSpPr>
            <p:spPr>
              <a:xfrm>
                <a:off x="6240960" y="4985640"/>
                <a:ext cx="431280" cy="553680"/>
              </a:xfrm>
              <a:custGeom>
                <a:avLst/>
                <a:gdLst>
                  <a:gd name="textAreaLeft" fmla="*/ 19080 w 431280"/>
                  <a:gd name="textAreaRight" fmla="*/ 412200 w 431280"/>
                  <a:gd name="textAreaTop" fmla="*/ 19080 h 553680"/>
                  <a:gd name="textAreaBottom" fmla="*/ 534600 h 553680"/>
                </a:gdLst>
                <a:ahLst/>
                <a:rect l="textAreaLeft" t="textAreaTop" r="textAreaRight" b="textAreaBottom"/>
                <a:pathLst>
                  <a:path w="21600" h="27725">
                    <a:moveTo>
                      <a:pt x="3276" y="0"/>
                    </a:moveTo>
                    <a:arcTo wR="3276" hR="3276" stAng="16200000" swAng="-5400000"/>
                    <a:lnTo>
                      <a:pt x="0" y="24449"/>
                    </a:lnTo>
                    <a:arcTo wR="3276" hR="3276" stAng="10800000" swAng="-5400000"/>
                    <a:lnTo>
                      <a:pt x="18324" y="27725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4" name="AutoShape 12"/>
              <p:cNvSpPr/>
              <p:nvPr/>
            </p:nvSpPr>
            <p:spPr>
              <a:xfrm>
                <a:off x="6240960" y="3276000"/>
                <a:ext cx="431280" cy="552240"/>
              </a:xfrm>
              <a:custGeom>
                <a:avLst/>
                <a:gdLst>
                  <a:gd name="textAreaLeft" fmla="*/ 19080 w 431280"/>
                  <a:gd name="textAreaRight" fmla="*/ 412200 w 431280"/>
                  <a:gd name="textAreaTop" fmla="*/ 19080 h 552240"/>
                  <a:gd name="textAreaBottom" fmla="*/ 533160 h 552240"/>
                </a:gdLst>
                <a:ahLst/>
                <a:rect l="textAreaLeft" t="textAreaTop" r="textAreaRight" b="textAreaBottom"/>
                <a:pathLst>
                  <a:path w="21600" h="27653">
                    <a:moveTo>
                      <a:pt x="3276" y="0"/>
                    </a:moveTo>
                    <a:arcTo wR="3276" hR="3276" stAng="16200000" swAng="-5400000"/>
                    <a:lnTo>
                      <a:pt x="0" y="24377"/>
                    </a:lnTo>
                    <a:arcTo wR="3276" hR="3276" stAng="10800000" swAng="-5400000"/>
                    <a:lnTo>
                      <a:pt x="18324" y="27653"/>
                    </a:lnTo>
                    <a:arcTo wR="3276" hR="3276" stAng="5400000" swAng="-5400000"/>
                    <a:lnTo>
                      <a:pt x="21600" y="3276"/>
                    </a:lnTo>
                    <a:arcTo wR="3276" hR="3276" stAng="0" swAng="-5400000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5" name="Oval 13"/>
              <p:cNvSpPr/>
              <p:nvPr/>
            </p:nvSpPr>
            <p:spPr>
              <a:xfrm>
                <a:off x="5809320" y="4336560"/>
                <a:ext cx="257760" cy="21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>
                <a:off x="5853600" y="4439520"/>
                <a:ext cx="1717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5853600" y="4349160"/>
                <a:ext cx="171720" cy="9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>
                <a:off x="4089240" y="4439520"/>
                <a:ext cx="24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4291920" y="4399920"/>
                <a:ext cx="43200" cy="80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0" y="50"/>
                    </a:moveTo>
                    <a:lnTo>
                      <a:pt x="24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0" name="Line 18"/>
              <p:cNvSpPr/>
              <p:nvPr/>
            </p:nvSpPr>
            <p:spPr>
              <a:xfrm>
                <a:off x="4782240" y="4439520"/>
                <a:ext cx="24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4982040" y="4399920"/>
                <a:ext cx="44280" cy="80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6" h="51">
                    <a:moveTo>
                      <a:pt x="0" y="50"/>
                    </a:moveTo>
                    <a:lnTo>
                      <a:pt x="25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2" name="Line 20"/>
              <p:cNvSpPr/>
              <p:nvPr/>
            </p:nvSpPr>
            <p:spPr>
              <a:xfrm>
                <a:off x="5473800" y="4439520"/>
                <a:ext cx="3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3" name="Freeform 21"/>
              <p:cNvSpPr/>
              <p:nvPr/>
            </p:nvSpPr>
            <p:spPr>
              <a:xfrm>
                <a:off x="5762880" y="4399920"/>
                <a:ext cx="41040" cy="806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4" name="Freeform 22"/>
              <p:cNvSpPr/>
              <p:nvPr/>
            </p:nvSpPr>
            <p:spPr>
              <a:xfrm>
                <a:off x="5938560" y="4555440"/>
                <a:ext cx="297000" cy="70632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173" h="445">
                    <a:moveTo>
                      <a:pt x="0" y="0"/>
                    </a:moveTo>
                    <a:lnTo>
                      <a:pt x="0" y="444"/>
                    </a:lnTo>
                    <a:lnTo>
                      <a:pt x="172" y="4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5" name="Freeform 23"/>
              <p:cNvSpPr/>
              <p:nvPr/>
            </p:nvSpPr>
            <p:spPr>
              <a:xfrm>
                <a:off x="6194520" y="5220720"/>
                <a:ext cx="40680" cy="80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>
                <a:off x="5938560" y="3552120"/>
                <a:ext cx="297000" cy="77436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774360"/>
                  <a:gd name="textAreaBottom" fmla="*/ 774720 h 774360"/>
                </a:gdLst>
                <a:ahLst/>
                <a:rect l="textAreaLeft" t="textAreaTop" r="textAreaRight" b="textAreaBottom"/>
                <a:pathLst>
                  <a:path w="173" h="488">
                    <a:moveTo>
                      <a:pt x="0" y="487"/>
                    </a:moveTo>
                    <a:lnTo>
                      <a:pt x="0" y="0"/>
                    </a:lnTo>
                    <a:lnTo>
                      <a:pt x="17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>
                <a:off x="6194520" y="3511080"/>
                <a:ext cx="40680" cy="788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4" h="50">
                    <a:moveTo>
                      <a:pt x="0" y="49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8" name="Line 26"/>
              <p:cNvSpPr/>
              <p:nvPr/>
            </p:nvSpPr>
            <p:spPr>
              <a:xfrm>
                <a:off x="6679440" y="5260320"/>
                <a:ext cx="15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6797880" y="5220720"/>
                <a:ext cx="41040" cy="806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0" y="50"/>
                    </a:moveTo>
                    <a:lnTo>
                      <a:pt x="23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80" name="Line 28"/>
              <p:cNvSpPr/>
              <p:nvPr/>
            </p:nvSpPr>
            <p:spPr>
              <a:xfrm>
                <a:off x="6679440" y="3552120"/>
                <a:ext cx="15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6797880" y="3511080"/>
                <a:ext cx="41040" cy="78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4" h="50">
                    <a:moveTo>
                      <a:pt x="0" y="49"/>
                    </a:moveTo>
                    <a:lnTo>
                      <a:pt x="23" y="2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sp>
          <p:nvSpPr>
            <p:cNvPr id="582" name="Rectangle 30"/>
            <p:cNvSpPr/>
            <p:nvPr/>
          </p:nvSpPr>
          <p:spPr>
            <a:xfrm>
              <a:off x="5064480" y="2707920"/>
              <a:ext cx="199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83" name="Rectangle 31"/>
          <p:cNvSpPr/>
          <p:nvPr/>
        </p:nvSpPr>
        <p:spPr>
          <a:xfrm>
            <a:off x="914400" y="1295280"/>
            <a:ext cx="4191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O FOCO  ESTÁ 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NOS </a:t>
            </a:r>
            <a:r>
              <a:rPr b="1" i="1" lang="pt-BR" sz="3200" spc="-1" strike="noStrike" u="sng">
                <a:solidFill>
                  <a:srgbClr val="165160"/>
                </a:solidFill>
                <a:uFillTx/>
                <a:latin typeface="Arial"/>
              </a:rPr>
              <a:t>PROCESSOS</a:t>
            </a:r>
            <a:r>
              <a:rPr b="1" i="1" lang="pt-BR" sz="3200" spc="-1" strike="noStrike">
                <a:solidFill>
                  <a:srgbClr val="165160"/>
                </a:solidFill>
                <a:latin typeface="Arial"/>
              </a:rPr>
              <a:t> EMPRESARIA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84" name="Group 3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85" name="Rectangle 3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152280" y="76320"/>
              <a:ext cx="960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VISÃO POR PROCESSOS DA ORGANIZAÇÃO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8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89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90" name="Text Box 5"/>
          <p:cNvSpPr/>
          <p:nvPr/>
        </p:nvSpPr>
        <p:spPr>
          <a:xfrm>
            <a:off x="415800" y="990720"/>
            <a:ext cx="9145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165160"/>
                </a:solidFill>
                <a:latin typeface="Tahoma"/>
              </a:rPr>
              <a:t>As atividades passam a ser analisadas não em termos de funções, áreas ou de produtos, MAS DE PROCESSOS DE TRABALH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82680" y="2590920"/>
            <a:ext cx="9218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Nesse caso o novo modelo de gestão da organização passa a permitir: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o melhor atingimento das estratégias e sua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</a:rPr>
              <a:t>  permanente atualização;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o conhecimento real dos processos de trabalh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 implementação de mudanças em todas as sua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complexas dimensões tecnológica, humana e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organizac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593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94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95" name="Text Box 5"/>
          <p:cNvSpPr/>
          <p:nvPr/>
        </p:nvSpPr>
        <p:spPr>
          <a:xfrm>
            <a:off x="533520" y="1143000"/>
            <a:ext cx="9028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cc0000"/>
                </a:solidFill>
                <a:uFillTx/>
                <a:latin typeface="Tahoma"/>
              </a:rPr>
              <a:t>Por que as organizações não adotam a abordagem por processos?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- mercado pouco competitivo e exigente, onde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se convive com processos com baixa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eficiência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paradigma da visão hierárquica e funcional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ausência de visão estratégica da organizaçã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desconhecimento dos clientes e de suas</a:t>
            </a:r>
            <a:br>
              <a:rPr sz="2800"/>
            </a:b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 necessidade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1651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165160"/>
                </a:solidFill>
                <a:latin typeface="Tahoma"/>
              </a:rPr>
              <a:t>inexistência de cultura de process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981000"/>
            <a:ext cx="9906120" cy="53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Alinhamento dos processos com a missão, visão e</a:t>
            </a:r>
            <a:br>
              <a:rPr sz="2200"/>
            </a:b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     estratégia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Eliminação de custo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Atendimento das reais necessidades dos client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Seleção de processos para terceir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Melhoria da coordenação e comunicação entre as ár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Viabilização das necessidades de mudança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Facilitação do desenho da arquitetura organizacional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Identificação de processos em duplicidade, incosistentes ou</a:t>
            </a:r>
            <a:br>
              <a:rPr sz="2200"/>
            </a:b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     inexistente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Visualização do ambiente extern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30000"/>
              </a:lnSpc>
              <a:buClr>
                <a:srgbClr val="ff0000"/>
              </a:buClr>
              <a:buSzPct val="15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en-CA" sz="2200" spc="-1" strike="noStrike">
                <a:solidFill>
                  <a:srgbClr val="003399"/>
                </a:solidFill>
                <a:latin typeface="Tahoma"/>
                <a:ea typeface="Arial"/>
              </a:rPr>
              <a:t>Identificação de solução de problemas e melhorias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9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59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0" y="93240"/>
              <a:ext cx="9906120" cy="581400"/>
            </a:xfrm>
            <a:prstGeom prst="rect">
              <a:avLst/>
            </a:prstGeom>
            <a:solidFill>
              <a:srgbClr val="10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BENEFÍCIOS DA ABORDAGEM PO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01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02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PROCESSOS X ISO 9000:2000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03" name="Text Box 5"/>
          <p:cNvSpPr/>
          <p:nvPr/>
        </p:nvSpPr>
        <p:spPr>
          <a:xfrm>
            <a:off x="228600" y="836640"/>
            <a:ext cx="9372600" cy="56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00000"/>
                </a:solidFill>
                <a:latin typeface="Tahoma"/>
              </a:rPr>
              <a:t>ISO (International Organization for Standardization) – fixa normas técnicas de âmbito internacional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165160"/>
                </a:solidFill>
                <a:latin typeface="Tahoma"/>
              </a:rPr>
              <a:t>ISO série 9000 – trata do assunto gestão da qualidade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00000"/>
                </a:solidFill>
                <a:latin typeface="Tahoma"/>
              </a:rPr>
              <a:t>A ISO 9000 determina que a organização adote a abordagem por processos, por entender que a estrutura funcional, em geral, trava o bom andamento das atividades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838080" y="836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Tahoma"/>
                <a:ea typeface="Arial"/>
              </a:rPr>
              <a:t>A conseqüência da divisão do trabalho chama-se 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Tahoma"/>
                <a:ea typeface="Arial"/>
              </a:rPr>
              <a:t>especialização</a:t>
            </a:r>
            <a:r>
              <a:rPr b="1" lang="pt-BR" sz="2800" spc="-1" strike="noStrike">
                <a:solidFill>
                  <a:srgbClr val="c00000"/>
                </a:solidFill>
                <a:latin typeface="Tahoma"/>
                <a:ea typeface="Arial"/>
              </a:rPr>
              <a:t>. Para se coordenar tarefas especializadas é necessário uma estrutura organizacional - ORGANOGRAMA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415800" y="2997360"/>
            <a:ext cx="9490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TIPOS DE ESTRUTURA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Funcion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or cliente, produto, território, período etc.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Division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ara organizações que atuam em grandes 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extensões geográficas ou com mercados diferentes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003399"/>
                </a:solidFill>
                <a:latin typeface="Tahoma"/>
              </a:rPr>
              <a:t>Matricial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(para organizações que precisam realizar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projetos com existência delimitada no tempo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712800" y="228600"/>
            <a:ext cx="858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07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08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849240" y="1219320"/>
            <a:ext cx="9056880" cy="117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ESTRUTURA ESTABELECE A FORMA CARACTERÍSTICA D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ORGANIZAÇÃO, DELINEANDO SUAS FRONTEIRAS COM 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MBIENTE E SUAS RELAÇÕE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762120" y="2590920"/>
            <a:ext cx="8535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ESTRUTURA PERMITE EXECUTAR AS ESTRATÉGIA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DEFINIDAS E REALIZAR O TRABALHO EXIGID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62120" y="3581280"/>
            <a:ext cx="8535960" cy="117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A MAIOR INFLUÊNCIA SOBRE A ARQUITETUR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ORGANIZACIONAL TALVEZ TENHA SIDO A EVOLUÇÃO D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TECNOLOGIA DA INFORMAÇÃ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13" name="Group 5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14" name="Rectangle 6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15" name="Text Box 7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16" name="Text Box 8"/>
          <p:cNvSpPr/>
          <p:nvPr/>
        </p:nvSpPr>
        <p:spPr>
          <a:xfrm>
            <a:off x="762120" y="5060880"/>
            <a:ext cx="8535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EM RESUMO, A ESTRUTURA ORGANIZACIONAL: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 u="sng">
                <a:solidFill>
                  <a:srgbClr val="003399"/>
                </a:solidFill>
                <a:uFillTx/>
                <a:latin typeface="Tahoma"/>
                <a:ea typeface="Arial"/>
              </a:rPr>
              <a:t>ANTIGAMENTE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– INSTITUCIONALIZAVA A ESTABILIDAD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    </a:t>
            </a:r>
            <a:r>
              <a:rPr b="1" lang="pt-BR" sz="2000" spc="-1" strike="noStrike" u="sng">
                <a:solidFill>
                  <a:srgbClr val="003399"/>
                </a:solidFill>
                <a:uFillTx/>
                <a:latin typeface="Tahoma"/>
                <a:ea typeface="Arial"/>
              </a:rPr>
              <a:t>ATUALMENTE</a:t>
            </a:r>
            <a:r>
              <a:rPr b="1" lang="pt-BR" sz="2000" spc="-1" strike="noStrike">
                <a:solidFill>
                  <a:srgbClr val="003399"/>
                </a:solidFill>
                <a:latin typeface="Tahoma"/>
                <a:ea typeface="Arial"/>
              </a:rPr>
              <a:t> – INSTITUCIONALIZA A MUDANÇ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1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19" name="Text Box 4"/>
            <p:cNvSpPr/>
            <p:nvPr/>
          </p:nvSpPr>
          <p:spPr>
            <a:xfrm>
              <a:off x="380880" y="13320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PROCESSOS X ESTRUTURA ORGANIZACIONAL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20" name="Rectangle 5"/>
          <p:cNvSpPr/>
          <p:nvPr/>
        </p:nvSpPr>
        <p:spPr>
          <a:xfrm>
            <a:off x="382680" y="1295280"/>
            <a:ext cx="921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1057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05766"/>
                </a:solidFill>
                <a:latin typeface="Tahoma"/>
              </a:rPr>
              <a:t>Uma estrutura organizacional baseada em processos </a:t>
            </a:r>
            <a:r>
              <a:rPr b="1" lang="pt-BR" sz="2800" spc="-1" strike="noStrike">
                <a:solidFill>
                  <a:srgbClr val="c00000"/>
                </a:solidFill>
                <a:latin typeface="Tahoma"/>
              </a:rPr>
              <a:t>é uma estrutura construída em torno do modo de fazer o trabalho</a:t>
            </a:r>
            <a:r>
              <a:rPr b="1" lang="pt-BR" sz="2800" spc="-1" strike="noStrike">
                <a:solidFill>
                  <a:srgbClr val="105766"/>
                </a:solidFill>
                <a:latin typeface="Tahoma"/>
              </a:rPr>
              <a:t>, e não em torno de habilitações específica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1057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382680" y="3429000"/>
            <a:ext cx="921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Tahoma"/>
              </a:rPr>
              <a:t>A proposta não é o abandono, nem tampouco uma mudança radical na estrutura funcional convencional, mas sim conhecer e melhorar os processos de trabalho, para que haja melhor compatibilidade com a estrutura organizac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565440" y="3289320"/>
            <a:ext cx="2743200" cy="901800"/>
          </a:xfrm>
          <a:prstGeom prst="rect">
            <a:avLst/>
          </a:prstGeom>
          <a:solidFill>
            <a:srgbClr val="0000cc"/>
          </a:solidFill>
          <a:ln w="255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NSFORMAÇÕES EM CADA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POSTO DE TRABALHO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465200" y="3306600"/>
            <a:ext cx="1503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ENTRADA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368360" y="4313160"/>
            <a:ext cx="164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MATERIAI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SERVIÇO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INFORMAÇÕE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393920" y="3733920"/>
            <a:ext cx="1822320" cy="228600"/>
          </a:xfrm>
          <a:prstGeom prst="rightArrow">
            <a:avLst>
              <a:gd name="adj1" fmla="val 50000"/>
              <a:gd name="adj2" fmla="val 18818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883200" y="3352680"/>
            <a:ext cx="1036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SAÍDA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754680" y="4332240"/>
            <a:ext cx="164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MATERIAI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SERVIÇO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98280" indent="-98280">
              <a:lnSpc>
                <a:spcPct val="100000"/>
              </a:lnSpc>
              <a:buClr>
                <a:srgbClr val="0000cc"/>
              </a:buClr>
              <a:buSzPct val="68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 </a:t>
            </a:r>
            <a:r>
              <a:rPr b="1" lang="pt-BR" sz="1400" spc="-1" strike="noStrike">
                <a:solidFill>
                  <a:srgbClr val="0000cc"/>
                </a:solidFill>
                <a:latin typeface="Tahoma"/>
                <a:ea typeface="Arial"/>
              </a:rPr>
              <a:t>INFORMAÇÕES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6553080" y="3768840"/>
            <a:ext cx="1819440" cy="230040"/>
          </a:xfrm>
          <a:prstGeom prst="rightArrow">
            <a:avLst>
              <a:gd name="adj1" fmla="val 50000"/>
              <a:gd name="adj2" fmla="val 18670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264120" y="5181480"/>
            <a:ext cx="3348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AGREGAÇÃO DE VALOR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4778280" y="4343400"/>
            <a:ext cx="339840" cy="762120"/>
          </a:xfrm>
          <a:prstGeom prst="upArrow">
            <a:avLst>
              <a:gd name="adj1" fmla="val 50000"/>
              <a:gd name="adj2" fmla="val 89475"/>
            </a:avLst>
          </a:prstGeom>
          <a:solidFill>
            <a:srgbClr val="ff00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2625840" y="11430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Tahoma"/>
              </a:rPr>
              <a:t>PROCESSO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119120" y="2773440"/>
            <a:ext cx="1631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3399"/>
                </a:solidFill>
                <a:latin typeface="Tahoma"/>
              </a:rPr>
              <a:t>PROCESSO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1" name="Rectangle 1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2" name="Rectangle 15"/>
            <p:cNvSpPr/>
            <p:nvPr/>
          </p:nvSpPr>
          <p:spPr>
            <a:xfrm>
              <a:off x="152280" y="76320"/>
              <a:ext cx="9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ahoma"/>
                </a:rPr>
                <a:t>O QUE FAZEMOS A CADA MOMENTO NAS ORGANIZAÇÕES?</a:t>
              </a:r>
              <a:endParaRPr b="1" lang="en-US" sz="24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200160" y="1143000"/>
            <a:ext cx="9505800" cy="540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organizacional constitui o mecanismo pelo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qual a organização interage com seu ambiente interno e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extern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define o comportamento da organização  em um       mundo mutável, dinâmico e competitiv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A estratégia é condicionada pela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Rod"/>
                <a:ea typeface="Rod"/>
              </a:rPr>
              <a:t>MISSÃO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organizacional,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 pela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VISÃO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do futuro, pelos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VALORES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e pelos </a:t>
            </a:r>
            <a:r>
              <a:rPr b="1" lang="pt-BR" sz="2200" spc="-1" strike="noStrike" u="sng">
                <a:solidFill>
                  <a:srgbClr val="232323"/>
                </a:solidFill>
                <a:uFillTx/>
                <a:latin typeface="Tahoma"/>
              </a:rPr>
              <a:t>OBJETIVOS</a:t>
            </a:r>
            <a:br>
              <a:rPr sz="2200"/>
            </a:b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    principais da organ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buClr>
                <a:srgbClr val="003399"/>
              </a:buClr>
              <a:buSzPct val="125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 </a:t>
            </a:r>
            <a:r>
              <a:rPr b="1" lang="pt-BR" sz="2200" spc="-1" strike="noStrike">
                <a:solidFill>
                  <a:srgbClr val="232323"/>
                </a:solidFill>
                <a:latin typeface="Tahoma"/>
              </a:rPr>
              <a:t>O ÚNICO INTEGRANTE RACIONAL E INTELIGENTE DA ESTRATÉGIA É O ELEMENTO HUMANO: A CABEÇA É O SISTEMA NERVOSO DA ORGANIZAÇÃO.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24" name="Rectangle 4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380880" y="13320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PROCESSOS X ESTRATÉGIA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0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6858000" y="874800"/>
            <a:ext cx="2362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Tahoma"/>
              </a:rPr>
              <a:t>VISÃ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6781680" y="5522760"/>
            <a:ext cx="2362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Tahoma"/>
              </a:rPr>
              <a:t>MISSÃ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3429000" y="484488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3429000" y="281952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3429000" y="4267080"/>
            <a:ext cx="2666880" cy="0"/>
          </a:xfrm>
          <a:prstGeom prst="line">
            <a:avLst/>
          </a:prstGeom>
          <a:ln cap="sq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1373040" y="838080"/>
            <a:ext cx="1065240" cy="5410440"/>
          </a:xfrm>
          <a:prstGeom prst="upArrow">
            <a:avLst>
              <a:gd name="adj1" fmla="val 50000"/>
              <a:gd name="adj2" fmla="val 12697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3886200" y="438768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1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886200" y="373392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2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3886200" y="228600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Tahoma"/>
                <a:ea typeface="Arial"/>
              </a:rPr>
              <a:t>OBJETIVO N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5" name="Line 11"/>
          <p:cNvSpPr/>
          <p:nvPr/>
        </p:nvSpPr>
        <p:spPr>
          <a:xfrm>
            <a:off x="3429000" y="3505320"/>
            <a:ext cx="2666880" cy="0"/>
          </a:xfrm>
          <a:prstGeom prst="line">
            <a:avLst/>
          </a:prstGeom>
          <a:ln w="3816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>
            <a:noAutofit/>
          </a:bodyPr>
          <a:p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7162920" y="1752480"/>
            <a:ext cx="1066680" cy="3657600"/>
          </a:xfrm>
          <a:prstGeom prst="upArrow">
            <a:avLst>
              <a:gd name="adj1" fmla="val 50000"/>
              <a:gd name="adj2" fmla="val 85724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7486560" y="2435400"/>
            <a:ext cx="4572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  <a:ea typeface="Arial"/>
              </a:rPr>
              <a:t>VALORE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1752480" y="1676520"/>
            <a:ext cx="4572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AÇÕE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N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Arial"/>
              </a:rPr>
              <a:t>TEMP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9" name="Oval 15"/>
          <p:cNvSpPr/>
          <p:nvPr/>
        </p:nvSpPr>
        <p:spPr>
          <a:xfrm>
            <a:off x="2743200" y="1066680"/>
            <a:ext cx="3657600" cy="762120"/>
          </a:xfrm>
          <a:prstGeom prst="ellipse">
            <a:avLst/>
          </a:prstGeom>
          <a:solidFill>
            <a:srgbClr val="336600"/>
          </a:solidFill>
          <a:ln cap="sq" w="12600">
            <a:solidFill>
              <a:srgbClr val="666633"/>
            </a:solidFill>
            <a:miter/>
          </a:ln>
          <a:effectLst>
            <a:outerShdw dist="107932" dir="189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3429000" y="1085760"/>
            <a:ext cx="2438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FUTURO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Oval 17"/>
          <p:cNvSpPr/>
          <p:nvPr/>
        </p:nvSpPr>
        <p:spPr>
          <a:xfrm>
            <a:off x="2743200" y="5478480"/>
            <a:ext cx="3657600" cy="719280"/>
          </a:xfrm>
          <a:prstGeom prst="ellipse">
            <a:avLst/>
          </a:prstGeom>
          <a:solidFill>
            <a:srgbClr val="336600"/>
          </a:solidFill>
          <a:ln cap="sq" w="12600">
            <a:solidFill>
              <a:srgbClr val="666633"/>
            </a:solidFill>
            <a:miter/>
          </a:ln>
          <a:effectLst>
            <a:outerShdw dist="107932" dir="189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3429000" y="5477040"/>
            <a:ext cx="2438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HOJ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44" name="Rectangle 20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380880" y="13320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GESTÃO ESTRATÉGIA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304920" y="236232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É O CONHECIMENTO DOS PROCESSOS E SEU RELACIONAMENTO COM OS DADOS, ESTRUTURADOS EM UMA VISÃO </a:t>
            </a:r>
            <a:r>
              <a:rPr b="1" i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TOP-DOWN</a:t>
            </a:r>
            <a:r>
              <a:rPr b="1" lang="en-CA" sz="3200" spc="-1" strike="noStrike">
                <a:solidFill>
                  <a:srgbClr val="336600"/>
                </a:solidFill>
                <a:latin typeface="Tahoma"/>
                <a:ea typeface="Arial"/>
              </a:rPr>
              <a:t>, ATÉ UM NÍVEL QUE PERMITA SUA PERFEITA COMPREENSÃO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4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4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49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MAPEAMENT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50" name="Picture 6" descr="image number: wov023"/>
          <p:cNvPicPr/>
          <p:nvPr/>
        </p:nvPicPr>
        <p:blipFill>
          <a:blip r:embed="rId1"/>
          <a:stretch/>
        </p:blipFill>
        <p:spPr>
          <a:xfrm>
            <a:off x="6172200" y="2133720"/>
            <a:ext cx="335268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533520" y="1484280"/>
            <a:ext cx="6400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996600"/>
                </a:solidFill>
                <a:latin typeface="Tahoma"/>
                <a:ea typeface="Arial"/>
              </a:rPr>
              <a:t>É A ANÁLISE DOS RESULTADOS DOS PROCESSOS, TENDO COMO OBJETIVO CONHECER A SITUAÇÃO DA VANTAGEM COMPETITIVA DO NEGÓCIO </a:t>
            </a:r>
            <a:r>
              <a:rPr b="1" lang="en-CA" sz="3200" spc="-1" strike="noStrike">
                <a:solidFill>
                  <a:srgbClr val="996600"/>
                </a:solidFill>
                <a:latin typeface="Tahoma"/>
                <a:ea typeface="Arial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53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AVALIAÇÃ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55" name="Picture 6" descr="image number: TR007426"/>
          <p:cNvPicPr/>
          <p:nvPr/>
        </p:nvPicPr>
        <p:blipFill>
          <a:blip r:embed="rId1"/>
          <a:stretch/>
        </p:blipFill>
        <p:spPr>
          <a:xfrm>
            <a:off x="7240680" y="2438280"/>
            <a:ext cx="1957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382680" y="1268280"/>
            <a:ext cx="540864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Tahoma"/>
                <a:ea typeface="Arial"/>
              </a:rPr>
              <a:t>É A DETERMINAÇÃO DA ESTRUTRURA E DO  ARRANJO DOS PROCESSOS, CAPAZ DE ASSEGURAR O MELHOR RESULTADO COMPETITIVO PARA A ORGANIZAÇÃO.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57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58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59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O QUE É OTIMIZAÇÃO DE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660" name="Picture 6" descr="paraquedistas"/>
          <p:cNvPicPr/>
          <p:nvPr/>
        </p:nvPicPr>
        <p:blipFill>
          <a:blip r:embed="rId1"/>
          <a:stretch/>
        </p:blipFill>
        <p:spPr>
          <a:xfrm>
            <a:off x="6095880" y="21337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228600" y="1371600"/>
            <a:ext cx="9677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99"/>
                </a:solidFill>
                <a:latin typeface="Tahoma"/>
                <a:ea typeface="Arial"/>
              </a:rPr>
              <a:t>Pela sua dependência intrínseca não há regras pré-estabelecidas para determinar quantos e quais são os processos de uma organização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63" name="Rectangle 4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64" name="Text Box 5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ffffff"/>
                  </a:solidFill>
                  <a:latin typeface="Tahoma"/>
                </a:rPr>
                <a:t>QUAIS E QUANTOS SÃO OS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65" name="Rectangle 6"/>
          <p:cNvSpPr/>
          <p:nvPr/>
        </p:nvSpPr>
        <p:spPr>
          <a:xfrm>
            <a:off x="914400" y="36576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Tahoma"/>
                <a:ea typeface="Arial"/>
              </a:rPr>
              <a:t> </a:t>
            </a: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Em uma mesma organização podem </a:t>
            </a:r>
            <a:br>
              <a:rPr sz="3200"/>
            </a:b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ser considerados uns poucos ou </a:t>
            </a:r>
            <a:br>
              <a:rPr sz="3200"/>
            </a:br>
            <a:r>
              <a:rPr b="1" lang="en-CA" sz="3200" spc="-1" strike="noStrike">
                <a:solidFill>
                  <a:srgbClr val="c00000"/>
                </a:solidFill>
                <a:latin typeface="Tahoma"/>
                <a:ea typeface="Arial"/>
              </a:rPr>
              <a:t>centenas de processos </a:t>
            </a:r>
            <a:r>
              <a:rPr b="1" lang="en-CA" sz="1600" spc="-1" strike="noStrike">
                <a:solidFill>
                  <a:srgbClr val="c00000"/>
                </a:solidFill>
                <a:latin typeface="Tahoma"/>
                <a:ea typeface="Arial"/>
              </a:rPr>
              <a:t>(Davenport)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67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68" name="Text Box 4"/>
            <p:cNvSpPr/>
            <p:nvPr/>
          </p:nvSpPr>
          <p:spPr>
            <a:xfrm>
              <a:off x="380880" y="16272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CRITÉRIOS PARA SELECIONAR PROCESSOS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69" name="Text Box 5"/>
          <p:cNvSpPr/>
          <p:nvPr/>
        </p:nvSpPr>
        <p:spPr>
          <a:xfrm>
            <a:off x="304920" y="1244520"/>
            <a:ext cx="960120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QUE IMPACTAM PRIORITARIAMENTE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OS RESULTADOS OPERACIONAI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CRÍTICOS PARA A IMPLEMENTAÇÃO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DA ESTRATÉGIA ORGANIZIONAL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</a:t>
            </a: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PROCESSOS QUE IMPACTAM NA INTERAÇÕES OU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NAS INTERFACES DE OUTROS PROCESSOS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PRIORITÁRIOS, ESTRANGULANDO OU  </a:t>
            </a:r>
            <a:br>
              <a:rPr sz="2800"/>
            </a:br>
            <a:r>
              <a:rPr b="1" lang="pt-BR" sz="2800" spc="-1" strike="noStrike">
                <a:solidFill>
                  <a:srgbClr val="0033cc"/>
                </a:solidFill>
                <a:latin typeface="Tahoma"/>
                <a:ea typeface="Arial"/>
              </a:rPr>
              <a:t>   LIMITANDO RESULT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7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7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AR OU NÃO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73" name="Text Box 5"/>
          <p:cNvSpPr/>
          <p:nvPr/>
        </p:nvSpPr>
        <p:spPr>
          <a:xfrm>
            <a:off x="304920" y="1752480"/>
            <a:ext cx="92962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</a:rPr>
              <a:t>Em que grau nós governamos a situação (processos sob controle) ou somos governados pelos acontecimentos (processos fora de controle)?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1026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675" name="Rectangle 1027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76" name="Rectangle 1028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AR OU NÃO PROCESSOS?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77" name="Text Box 1029"/>
          <p:cNvSpPr/>
          <p:nvPr/>
        </p:nvSpPr>
        <p:spPr>
          <a:xfrm>
            <a:off x="228600" y="1063800"/>
            <a:ext cx="967752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ahoma"/>
              </a:rPr>
              <a:t>CARACTERÍSTICAS DAS ORGANIZAÇÕES QUE CONTROLAM PROCESSOS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Há objetivos claros a serem alcançados e eles são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conhecidos por to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Os processos são identificados e medi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Há indicadores de desempenho definid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A gestão é realizada com base nesses indicadore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Os indicadores estão alinhados com a satisfação dos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clientes e com os resultados econômico-financeiros da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organização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As pessoas realizam seus processos de forma estruturada,</a:t>
            </a: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Tahoma"/>
              </a:rPr>
              <a:t>    previsível e organizada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79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80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FATORES CRÍTICOS DE SU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81" name="Text Box 5"/>
          <p:cNvSpPr/>
          <p:nvPr/>
        </p:nvSpPr>
        <p:spPr>
          <a:xfrm>
            <a:off x="304920" y="914400"/>
            <a:ext cx="8540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62329"/>
                </a:solidFill>
                <a:latin typeface="Tahoma"/>
              </a:rPr>
              <a:t>São condições essenciais para que um processo de trabalho seja desempenhado com êxit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457200" y="2482920"/>
            <a:ext cx="854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62329"/>
                </a:solidFill>
                <a:latin typeface="Tahoma"/>
              </a:rPr>
              <a:t>São atributos indispensáveis para a eficiência e a eficácia de um process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57200" y="359424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c00000"/>
                </a:solidFill>
                <a:latin typeface="Tahoma"/>
                <a:ea typeface="Arial"/>
              </a:rPr>
              <a:t>São específicos de cada processo, embora possam ser comuns a outros processos da organização, pois gera um ambiente favorável à competitividade e à satisfação das pessoa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84" name="Picture 8" descr="BD04924_"/>
          <p:cNvPicPr/>
          <p:nvPr/>
        </p:nvPicPr>
        <p:blipFill>
          <a:blip r:embed="rId1"/>
          <a:stretch/>
        </p:blipFill>
        <p:spPr>
          <a:xfrm>
            <a:off x="6858000" y="2971800"/>
            <a:ext cx="2525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4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5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LGUMAS DEFINIÇÕES DE PRO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609480" y="1066680"/>
          <a:ext cx="8839440" cy="4735800"/>
        </p:xfrm>
        <a:graphic>
          <a:graphicData uri="http://schemas.openxmlformats.org/drawingml/2006/table">
            <a:tbl>
              <a:tblPr/>
              <a:tblGrid>
                <a:gridCol w="3124440"/>
                <a:gridCol w="5715000"/>
              </a:tblGrid>
              <a:tr h="3733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FONTE BIBLIOGRÁFICA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FINIÇÃO DE PROCESSO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 NBR ISO 9000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atividades inter-relacionadas que transforma insumos (entradas) em produtos (saídas)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F – Integration Definition for Modeling of Proces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atividades, funções ou tarefas identificadas, que ocorrem em um período de tempo e que produzem algum resultado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hael Hammer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 organizado de atividades relacionadas que, juntas, criam um resultado de valor para o cliente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omas Davenpor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nação específica das atividades de trabalho, no tempo e no espaço, com um começo, um fim e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</a:t>
                      </a: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puts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laramente identificados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hit Ramaswamy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qüências de atividades que são necessárias para realizar as transações e prestar o serviço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inne Galloway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qüência de passos, tarefas ou atividades que convertem entradas de fornecedores em uma saída e adiciona valor às entradas.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86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87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FATORES CRÍTICOS DE SUCESS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88" name="Text Box 5"/>
          <p:cNvSpPr/>
          <p:nvPr/>
        </p:nvSpPr>
        <p:spPr>
          <a:xfrm>
            <a:off x="685800" y="1278000"/>
            <a:ext cx="854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ahoma"/>
                <a:ea typeface="Arial"/>
              </a:rPr>
              <a:t>EXEMPLO: FCS de um processo de aquisição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382680" y="1413000"/>
            <a:ext cx="95234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avaliação e seleção de fornecedore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definição das especificações dos itens adquiridos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alinhamento de informações contratuais de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 compra entre cliente e fornecedor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definição dos critérios de verificação técnica do</a:t>
            </a:r>
            <a:br>
              <a:rPr sz="2800"/>
            </a:b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 item adquirido;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68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CA" sz="2800" spc="-1" strike="noStrike">
                <a:solidFill>
                  <a:srgbClr val="000099"/>
                </a:solidFill>
                <a:latin typeface="Tahoma"/>
                <a:ea typeface="Arial"/>
              </a:rPr>
              <a:t>preço e prazo monitor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691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2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MO IMPLEMENTAR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693" name="Text Box 5"/>
          <p:cNvSpPr/>
          <p:nvPr/>
        </p:nvSpPr>
        <p:spPr>
          <a:xfrm>
            <a:off x="382680" y="4343400"/>
            <a:ext cx="4189320" cy="1449000"/>
          </a:xfrm>
          <a:prstGeom prst="rect">
            <a:avLst/>
          </a:prstGeom>
          <a:solidFill>
            <a:srgbClr val="105766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NTEÚDO EXPLÍCIT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(OBJETIVO E DOCUMENTADO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Tahoma"/>
              </a:rPr>
              <a:t>NORMAS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5105520" y="4343400"/>
            <a:ext cx="4419360" cy="1449000"/>
          </a:xfrm>
          <a:prstGeom prst="rect">
            <a:avLst/>
          </a:prstGeom>
          <a:solidFill>
            <a:srgbClr val="105766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NTEÚDO IMPLÍCIT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(ATITUDE MENTAL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Tahoma"/>
              </a:rPr>
              <a:t>DIRECIONADORES ESTRATÉGICOS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95" name="Group 7"/>
          <p:cNvGrpSpPr/>
          <p:nvPr/>
        </p:nvGrpSpPr>
        <p:grpSpPr>
          <a:xfrm>
            <a:off x="685800" y="1143000"/>
            <a:ext cx="8458200" cy="2895480"/>
            <a:chOff x="685800" y="1143000"/>
            <a:chExt cx="8458200" cy="2895480"/>
          </a:xfrm>
        </p:grpSpPr>
        <p:sp>
          <p:nvSpPr>
            <p:cNvPr id="696" name="Text Box 8"/>
            <p:cNvSpPr/>
            <p:nvPr/>
          </p:nvSpPr>
          <p:spPr>
            <a:xfrm>
              <a:off x="685800" y="1143000"/>
              <a:ext cx="84582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ahoma"/>
                </a:rPr>
                <a:t>Implementar um processo é colocar em prática os conceitos e as diretrizes contidas no planejamento do processo, assim gerando o seu produto. É fazê-lo funcionar</a:t>
              </a:r>
              <a:endParaRPr b="1" lang="en-US" sz="24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7" name="Line 9"/>
            <p:cNvSpPr/>
            <p:nvPr/>
          </p:nvSpPr>
          <p:spPr>
            <a:xfrm>
              <a:off x="4648320" y="3200400"/>
              <a:ext cx="1600200" cy="83808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698" name="Line 10"/>
            <p:cNvSpPr/>
            <p:nvPr/>
          </p:nvSpPr>
          <p:spPr>
            <a:xfrm flipH="1">
              <a:off x="3047760" y="3200400"/>
              <a:ext cx="1523880" cy="83808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0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01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DOCUMENTAÇÃO E NORMA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702" name="Text Box 5"/>
          <p:cNvSpPr/>
          <p:nvPr/>
        </p:nvSpPr>
        <p:spPr>
          <a:xfrm>
            <a:off x="272880" y="985680"/>
            <a:ext cx="943308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Benefícios apontados pela documentação (ISO 9000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ermitir a comunicação objetiva da estratégica, dos objetivos e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 da consistência da ação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tingir a conformidade com os requisitos do cliente e a melhoria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da qualidade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ver o treinamento apropriado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ssegurar a rastreabilidade e a repetibilidade dos processos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ver evidências objetivas dos resultados alcançados;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Avaliar a eficácia e a contínua adequação do sistema de gestão</a:t>
            </a:r>
            <a:br>
              <a:rPr sz="2000"/>
            </a:b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    da qualidade implementado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4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05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DOCUMENTAÇÃO E NORMA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706" name="Text Box 5"/>
          <p:cNvSpPr/>
          <p:nvPr/>
        </p:nvSpPr>
        <p:spPr>
          <a:xfrm>
            <a:off x="685800" y="985680"/>
            <a:ext cx="883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 Norma ISO 9000 seleciona três fatores determinantes para </a:t>
            </a:r>
            <a:r>
              <a:rPr b="1" lang="pt-BR" sz="2400" spc="-1" strike="noStrike" u="sng">
                <a:solidFill>
                  <a:srgbClr val="000066"/>
                </a:solidFill>
                <a:uFillTx/>
                <a:latin typeface="Tahoma"/>
              </a:rPr>
              <a:t>abrangência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da documentação a ser adotada na organização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488880" y="2362320"/>
          <a:ext cx="9217080" cy="4306680"/>
        </p:xfrm>
        <a:graphic>
          <a:graphicData uri="http://schemas.openxmlformats.org/drawingml/2006/table">
            <a:tbl>
              <a:tblPr/>
              <a:tblGrid>
                <a:gridCol w="3390840"/>
                <a:gridCol w="5826240"/>
              </a:tblGrid>
              <a:tr h="8078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ATOR CONSIDERAD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XPLIC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manho da organização/ tipo de atividade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ai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em função do maior número de processos envolvidos ou mais detalhes/ tipos de processos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lexidade dos processos e suas interaçõ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ai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ara contemplar todos os aspectos críticos, referentes a complexidade dos processos e suas interações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ência pessoal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Menor a abrangênci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em função da maturidade profissional.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09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0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CONTROLE DE DOCUMENT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aphicFrame>
        <p:nvGraphicFramePr>
          <p:cNvPr id="711" name=""/>
          <p:cNvGraphicFramePr/>
          <p:nvPr/>
        </p:nvGraphicFramePr>
        <p:xfrm>
          <a:off x="344520" y="2286000"/>
          <a:ext cx="9217080" cy="4167360"/>
        </p:xfrm>
        <a:graphic>
          <a:graphicData uri="http://schemas.openxmlformats.org/drawingml/2006/table">
            <a:tbl>
              <a:tblPr/>
              <a:tblGrid>
                <a:gridCol w="2782800"/>
                <a:gridCol w="4086360"/>
                <a:gridCol w="2347920"/>
              </a:tblGrid>
              <a:tr h="7826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PROCESS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FINALIDADE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ATIVIDAD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riz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 analisa e aprova o document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e crítica e aprov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28080">
                      <a:solidFill>
                        <a:srgbClr val="00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r a atualidade do conteúdo da informa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ão, data, alterações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368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ribuição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belecer quem deve receber a informação atualizada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ctr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e de distribuição (automático ou manual)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ahoma"/>
                      </a:endParaRPr>
                    </a:p>
                  </a:txBody>
                  <a:tcPr anchor="t" marL="93600" marR="93600">
                    <a:lnL w="28080">
                      <a:solidFill>
                        <a:srgbClr val="003399"/>
                      </a:solidFill>
                    </a:lnL>
                    <a:lnR w="28080">
                      <a:solidFill>
                        <a:srgbClr val="00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2" name="Text Box 27"/>
          <p:cNvSpPr/>
          <p:nvPr/>
        </p:nvSpPr>
        <p:spPr>
          <a:xfrm>
            <a:off x="685800" y="1335240"/>
            <a:ext cx="883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tividades relacionadas ao controle de documentos: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14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5" name="Text Box 4"/>
            <p:cNvSpPr/>
            <p:nvPr/>
          </p:nvSpPr>
          <p:spPr>
            <a:xfrm>
              <a:off x="380880" y="162720"/>
              <a:ext cx="8763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TEMPO DE GUARDA DA DOCUMENTAÇÃO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716" name="Group 5"/>
          <p:cNvGrpSpPr/>
          <p:nvPr/>
        </p:nvGrpSpPr>
        <p:grpSpPr>
          <a:xfrm>
            <a:off x="914400" y="1523880"/>
            <a:ext cx="8077320" cy="4572000"/>
            <a:chOff x="914400" y="1523880"/>
            <a:chExt cx="8077320" cy="4572000"/>
          </a:xfrm>
        </p:grpSpPr>
        <p:sp>
          <p:nvSpPr>
            <p:cNvPr id="717" name="AutoShape 6"/>
            <p:cNvSpPr/>
            <p:nvPr/>
          </p:nvSpPr>
          <p:spPr>
            <a:xfrm>
              <a:off x="914400" y="1523880"/>
              <a:ext cx="8077320" cy="4572000"/>
            </a:xfrm>
            <a:prstGeom prst="foldedCorner">
              <a:avLst>
                <a:gd name="adj" fmla="val 125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18" name="Text Box 7"/>
            <p:cNvSpPr/>
            <p:nvPr/>
          </p:nvSpPr>
          <p:spPr>
            <a:xfrm>
              <a:off x="1143000" y="1752480"/>
              <a:ext cx="7467480" cy="34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ahoma"/>
                </a:rPr>
                <a:t>A DOCUMENTAÇÃO GERADA PELOS PROCESSOS (NORMATIVA OU REGISTROS) DEVE SER PRESERVADA A PARTIR DE CRITÉRIOS QUE ESTABELEÇAM OS PRAZOS DE GUARDA E A DESTINAÇÃO FINAL DOS DOCUMENTOS.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44520" y="1125360"/>
            <a:ext cx="9066240" cy="4607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33cc"/>
                </a:solidFill>
                <a:latin typeface="Lucida Sans Unicode"/>
              </a:rPr>
              <a:t>1</a:t>
            </a: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) Todo trabalho é viabilizado através 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uma rede de process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2) Toda pessoa faz parte de um proc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3) Todo processo gera um produto (saíd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4) Todo processo tem um cliente (intern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ou externo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5) Todo processo requer entrad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cc"/>
                </a:solidFill>
                <a:latin typeface="Lucida Sans Unicode"/>
              </a:rPr>
              <a:t>6) Todo processo tem fornecedo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0" name="Título 2" descr=""/>
          <p:cNvPicPr/>
          <p:nvPr/>
        </p:nvPicPr>
        <p:blipFill>
          <a:blip r:embed="rId2"/>
          <a:stretch/>
        </p:blipFill>
        <p:spPr>
          <a:xfrm>
            <a:off x="128520" y="158760"/>
            <a:ext cx="9502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457200" y="1143000"/>
            <a:ext cx="90676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Sem liderança é muito pouco provável que o processo de mudanças tenha êxito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Avalie o potencial de liderança disponível, tanto em qualidade (competência) quanto em quantidade (massa crítica)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Avalie as chances de sucesso do projeto de mudanças considerando: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tecnológic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econômic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1624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Tahoma"/>
              </a:rPr>
              <a:t>Viabilidade política</a:t>
            </a:r>
            <a:r>
              <a:rPr b="1" lang="pt-BR" sz="2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80880" y="163440"/>
            <a:ext cx="87631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ahoma"/>
              </a:rPr>
              <a:t>O PAPEL DO LÍDER NA MELHORIA DOS PROCESSO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725" name="Rectangle 3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726" name="Text Box 4"/>
            <p:cNvSpPr/>
            <p:nvPr/>
          </p:nvSpPr>
          <p:spPr>
            <a:xfrm>
              <a:off x="380880" y="162720"/>
              <a:ext cx="876312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Tahoma"/>
                </a:rPr>
                <a:t>O PAPEL DO LÍDER NA MELHORIA DOS PROCESSOS</a:t>
              </a:r>
              <a:endParaRPr b="1" lang="en-US" sz="2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727" name="Picture 5" descr="BD05552_"/>
          <p:cNvPicPr/>
          <p:nvPr/>
        </p:nvPicPr>
        <p:blipFill>
          <a:blip r:embed="rId1"/>
          <a:stretch/>
        </p:blipFill>
        <p:spPr>
          <a:xfrm>
            <a:off x="6032520" y="4437000"/>
            <a:ext cx="2387520" cy="19652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6"/>
          <p:cNvSpPr/>
          <p:nvPr/>
        </p:nvSpPr>
        <p:spPr>
          <a:xfrm>
            <a:off x="457200" y="1143000"/>
            <a:ext cx="906768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66"/>
                </a:solidFill>
                <a:latin typeface="Tahoma"/>
              </a:rPr>
              <a:t>Cabe ao líder avaliar os processos internos e externos, tanto em termos absolutos quanto comparados à concorrência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66"/>
                </a:solidFill>
                <a:latin typeface="Tahoma"/>
              </a:rPr>
              <a:t>Reverter situações desvantajosas é sempre muito mais difícil do que manter um bom nível de desempenho na atividade considerada.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D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10" name="Text Box 5"/>
          <p:cNvSpPr/>
          <p:nvPr/>
        </p:nvSpPr>
        <p:spPr>
          <a:xfrm>
            <a:off x="76320" y="1219320"/>
            <a:ext cx="990576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Tahoma"/>
              </a:rPr>
              <a:t>Processo elementar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– unidade de um processo,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composto de entrada, transformação e saída.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11" name="Group 6"/>
          <p:cNvGrpSpPr/>
          <p:nvPr/>
        </p:nvGrpSpPr>
        <p:grpSpPr>
          <a:xfrm>
            <a:off x="3733560" y="2307960"/>
            <a:ext cx="1879200" cy="1272960"/>
            <a:chOff x="3733560" y="2307960"/>
            <a:chExt cx="1879200" cy="1272960"/>
          </a:xfrm>
        </p:grpSpPr>
        <p:sp>
          <p:nvSpPr>
            <p:cNvPr id="412" name="Line 7"/>
            <p:cNvSpPr/>
            <p:nvPr/>
          </p:nvSpPr>
          <p:spPr>
            <a:xfrm flipH="1">
              <a:off x="3733560" y="2946960"/>
              <a:ext cx="53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 flipV="1">
              <a:off x="4674960" y="2307960"/>
              <a:ext cx="0" cy="4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4289760" y="2730240"/>
              <a:ext cx="765360" cy="42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5074560" y="2946960"/>
              <a:ext cx="538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 flipV="1">
              <a:off x="4674960" y="3174840"/>
              <a:ext cx="0" cy="40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417" name="Group 12"/>
          <p:cNvGrpSpPr/>
          <p:nvPr/>
        </p:nvGrpSpPr>
        <p:grpSpPr>
          <a:xfrm>
            <a:off x="4266720" y="4723920"/>
            <a:ext cx="3459240" cy="1600560"/>
            <a:chOff x="4266720" y="4723920"/>
            <a:chExt cx="3459240" cy="1600560"/>
          </a:xfrm>
        </p:grpSpPr>
        <p:sp>
          <p:nvSpPr>
            <p:cNvPr id="418" name="Line 13"/>
            <p:cNvSpPr/>
            <p:nvPr/>
          </p:nvSpPr>
          <p:spPr>
            <a:xfrm>
              <a:off x="7356960" y="5813280"/>
              <a:ext cx="36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 flipH="1">
              <a:off x="4266720" y="5243400"/>
              <a:ext cx="31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 flipV="1">
              <a:off x="4812840" y="4724280"/>
              <a:ext cx="0" cy="399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1" name="Line 16"/>
            <p:cNvSpPr/>
            <p:nvPr/>
          </p:nvSpPr>
          <p:spPr>
            <a:xfrm flipV="1">
              <a:off x="4812840" y="5362200"/>
              <a:ext cx="0" cy="96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2" name="Line 17"/>
            <p:cNvSpPr/>
            <p:nvPr/>
          </p:nvSpPr>
          <p:spPr>
            <a:xfrm flipV="1">
              <a:off x="5977080" y="4723920"/>
              <a:ext cx="0" cy="66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 flipV="1">
              <a:off x="5977080" y="5633640"/>
              <a:ext cx="0" cy="69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 flipV="1">
              <a:off x="7136640" y="5904000"/>
              <a:ext cx="0" cy="42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>
              <a:off x="5060520" y="5243400"/>
              <a:ext cx="31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5375880" y="5243400"/>
              <a:ext cx="0" cy="26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>
              <a:off x="5375880" y="5513400"/>
              <a:ext cx="370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6197040" y="5530680"/>
              <a:ext cx="316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6513480" y="5530680"/>
              <a:ext cx="0" cy="26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6513480" y="5799240"/>
              <a:ext cx="42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1" name="Rectangle 26"/>
            <p:cNvSpPr/>
            <p:nvPr/>
          </p:nvSpPr>
          <p:spPr>
            <a:xfrm>
              <a:off x="5756760" y="5405400"/>
              <a:ext cx="434520" cy="21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2" name="Rectangle 27"/>
            <p:cNvSpPr/>
            <p:nvPr/>
          </p:nvSpPr>
          <p:spPr>
            <a:xfrm>
              <a:off x="4595400" y="5136480"/>
              <a:ext cx="434520" cy="21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 flipV="1">
              <a:off x="7123680" y="4724280"/>
              <a:ext cx="0" cy="939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4" name="Rectangle 29"/>
            <p:cNvSpPr/>
            <p:nvPr/>
          </p:nvSpPr>
          <p:spPr>
            <a:xfrm>
              <a:off x="6919200" y="5675400"/>
              <a:ext cx="434520" cy="21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35" name="Rectangle 30"/>
          <p:cNvSpPr/>
          <p:nvPr/>
        </p:nvSpPr>
        <p:spPr>
          <a:xfrm>
            <a:off x="76320" y="3776760"/>
            <a:ext cx="8991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Tahoma"/>
              </a:rPr>
              <a:t>Processos complexos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– reunião de processo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 elementare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37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38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 RED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39" name="Text Box 5"/>
          <p:cNvSpPr/>
          <p:nvPr/>
        </p:nvSpPr>
        <p:spPr>
          <a:xfrm>
            <a:off x="76320" y="1436760"/>
            <a:ext cx="99057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As organizações, mesmo as pequenas, são sistemas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complex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É de pouca relevância prática analisarmos um processo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isoladamente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As atividades que ocorrem nas organizações compõem-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se de uma REDE de process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11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Mesmo em níveis setoriais há uma grande quantidade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de processos interconectados, com ocorrência sequencial 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   ou concorrente, cada um influenciando os outros.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41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AGREGAÇÃO DE VALOR NOS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43" name="Text Box 5"/>
          <p:cNvSpPr/>
          <p:nvPr/>
        </p:nvSpPr>
        <p:spPr>
          <a:xfrm>
            <a:off x="0" y="692280"/>
            <a:ext cx="990612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cessos que não agregam valor devem ser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eliminados, pois consomem recursos e não                     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duzem resultad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O resultado financeiro de uma organização é o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somatório dos valores agregados de todos os seus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processos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74680">
              <a:lnSpc>
                <a:spcPct val="12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 quantidade de agregação de valor global é</a:t>
            </a:r>
            <a:br>
              <a:rPr sz="2800"/>
            </a:b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diretamente proporcional à combinação da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eficiência e  da eficácia de todos os processos de 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uma organização.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57200" y="121932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Tahoma"/>
                <a:ea typeface="Arial"/>
              </a:rPr>
              <a:t>Todo processo está inserido em um processo maior e pode ser decomposto em outros processos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609480" y="2209680"/>
            <a:ext cx="8874000" cy="3285360"/>
            <a:chOff x="609480" y="2209680"/>
            <a:chExt cx="8874000" cy="3285360"/>
          </a:xfrm>
        </p:grpSpPr>
        <p:sp>
          <p:nvSpPr>
            <p:cNvPr id="446" name="Oval 4"/>
            <p:cNvSpPr/>
            <p:nvPr/>
          </p:nvSpPr>
          <p:spPr>
            <a:xfrm>
              <a:off x="3530520" y="2798640"/>
              <a:ext cx="3035160" cy="1940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700440" y="3555720"/>
              <a:ext cx="42048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5217840" y="3555720"/>
              <a:ext cx="42084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5975280" y="3555720"/>
              <a:ext cx="420480" cy="42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0" name="AutoShape 8"/>
            <p:cNvSpPr/>
            <p:nvPr/>
          </p:nvSpPr>
          <p:spPr>
            <a:xfrm>
              <a:off x="420516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1" name="AutoShape 9"/>
            <p:cNvSpPr/>
            <p:nvPr/>
          </p:nvSpPr>
          <p:spPr>
            <a:xfrm>
              <a:off x="496404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52" name="AutoShape 10"/>
            <p:cNvSpPr/>
            <p:nvPr/>
          </p:nvSpPr>
          <p:spPr>
            <a:xfrm>
              <a:off x="5722920" y="3598920"/>
              <a:ext cx="168120" cy="336240"/>
            </a:xfrm>
            <a:custGeom>
              <a:avLst/>
              <a:gdLst>
                <a:gd name="textAreaLeft" fmla="*/ 27000 w 168120"/>
                <a:gd name="textAreaRight" fmla="*/ 147600 w 168120"/>
                <a:gd name="textAreaTop" fmla="*/ 83880 h 336240"/>
                <a:gd name="textAreaBottom" fmla="*/ 252360 h 33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grpSp>
          <p:nvGrpSpPr>
            <p:cNvPr id="453" name="Group 11"/>
            <p:cNvGrpSpPr/>
            <p:nvPr/>
          </p:nvGrpSpPr>
          <p:grpSpPr>
            <a:xfrm>
              <a:off x="3922560" y="3555720"/>
              <a:ext cx="1545840" cy="1939320"/>
              <a:chOff x="3922560" y="3555720"/>
              <a:chExt cx="1545840" cy="1939320"/>
            </a:xfrm>
          </p:grpSpPr>
          <p:sp>
            <p:nvSpPr>
              <p:cNvPr id="454" name="Rectangle 12"/>
              <p:cNvSpPr/>
              <p:nvPr/>
            </p:nvSpPr>
            <p:spPr>
              <a:xfrm>
                <a:off x="4470840" y="3555720"/>
                <a:ext cx="421560" cy="421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54000" tIns="10800" bIns="10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2251"/>
                  </a:spcBef>
                  <a:buClr>
                    <a:srgbClr val="ffffff"/>
                  </a:buClr>
                  <a:buSzPct val="125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grpSp>
            <p:nvGrpSpPr>
              <p:cNvPr id="455" name="Group 13"/>
              <p:cNvGrpSpPr/>
              <p:nvPr/>
            </p:nvGrpSpPr>
            <p:grpSpPr>
              <a:xfrm>
                <a:off x="3922560" y="5158080"/>
                <a:ext cx="1517760" cy="336960"/>
                <a:chOff x="3922560" y="5158080"/>
                <a:chExt cx="1517760" cy="336960"/>
              </a:xfrm>
            </p:grpSpPr>
            <p:sp>
              <p:nvSpPr>
                <p:cNvPr id="456" name="Rectangle 14"/>
                <p:cNvSpPr/>
                <p:nvPr/>
              </p:nvSpPr>
              <p:spPr>
                <a:xfrm>
                  <a:off x="3922560" y="5158080"/>
                  <a:ext cx="33696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sp>
              <p:nvSpPr>
                <p:cNvPr id="457" name="Rectangle 15"/>
                <p:cNvSpPr/>
                <p:nvPr/>
              </p:nvSpPr>
              <p:spPr>
                <a:xfrm>
                  <a:off x="4512600" y="5158080"/>
                  <a:ext cx="33732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sp>
              <p:nvSpPr>
                <p:cNvPr id="458" name="Rectangle 16"/>
                <p:cNvSpPr/>
                <p:nvPr/>
              </p:nvSpPr>
              <p:spPr>
                <a:xfrm>
                  <a:off x="5103000" y="5158080"/>
                  <a:ext cx="337320" cy="3369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def5f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54000" tIns="10800" bIns="10800" anchor="ctr">
                  <a:noAutofit/>
                </a:bodyPr>
                <a:p>
                  <a:pPr>
                    <a:lnSpc>
                      <a:spcPct val="130000"/>
                    </a:lnSpc>
                    <a:spcBef>
                      <a:spcPts val="2251"/>
                    </a:spcBef>
                    <a:buClr>
                      <a:srgbClr val="ffffff"/>
                    </a:buClr>
                    <a:buSzPct val="125000"/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00"/>
                    </a:solidFill>
                    <a:latin typeface="Tahoma"/>
                  </a:endParaRPr>
                </a:p>
              </p:txBody>
            </p:sp>
            <p:cxnSp>
              <p:nvCxnSpPr>
                <p:cNvPr id="459" name="AutoShape 17"/>
                <p:cNvCxnSpPr>
                  <a:stCxn id="456" idx="3"/>
                  <a:endCxn id="457" idx="1"/>
                </p:cNvCxnSpPr>
                <p:nvPr/>
              </p:nvCxnSpPr>
              <p:spPr>
                <a:xfrm>
                  <a:off x="4268160" y="5326560"/>
                  <a:ext cx="236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lg" type="stealth" w="lg"/>
                </a:ln>
              </p:spPr>
            </p:cxnSp>
            <p:cxnSp>
              <p:nvCxnSpPr>
                <p:cNvPr id="460" name="AutoShape 18"/>
                <p:cNvCxnSpPr>
                  <a:stCxn id="457" idx="3"/>
                  <a:endCxn id="458" idx="1"/>
                </p:cNvCxnSpPr>
                <p:nvPr/>
              </p:nvCxnSpPr>
              <p:spPr>
                <a:xfrm>
                  <a:off x="4858560" y="5326560"/>
                  <a:ext cx="236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lg" type="stealth" w="lg"/>
                </a:ln>
              </p:spPr>
            </p:cxnSp>
          </p:grpSp>
          <p:sp>
            <p:nvSpPr>
              <p:cNvPr id="461" name="Line 19"/>
              <p:cNvSpPr/>
              <p:nvPr/>
            </p:nvSpPr>
            <p:spPr>
              <a:xfrm flipH="1">
                <a:off x="3949920" y="3977280"/>
                <a:ext cx="505800" cy="118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  <p:sp>
            <p:nvSpPr>
              <p:cNvPr id="462" name="Line 20"/>
              <p:cNvSpPr/>
              <p:nvPr/>
            </p:nvSpPr>
            <p:spPr>
              <a:xfrm>
                <a:off x="4878360" y="3977280"/>
                <a:ext cx="590040" cy="118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>
                <a:noAutofit/>
              </a:bodyPr>
              <a:p>
                <a:endParaRPr b="1" lang="en-US" sz="3600" spc="-1" strike="noStrike">
                  <a:solidFill>
                    <a:srgbClr val="ffff00"/>
                  </a:solidFill>
                  <a:latin typeface="Tahoma"/>
                </a:endParaRPr>
              </a:p>
            </p:txBody>
          </p:sp>
        </p:grpSp>
        <p:sp>
          <p:nvSpPr>
            <p:cNvPr id="463" name="AutoShape 21"/>
            <p:cNvSpPr/>
            <p:nvPr/>
          </p:nvSpPr>
          <p:spPr>
            <a:xfrm>
              <a:off x="2097000" y="3178080"/>
              <a:ext cx="1347840" cy="117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ENTRADAS</a:t>
              </a:r>
              <a:endParaRPr b="1" lang="en-US" sz="11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6651360" y="3178080"/>
              <a:ext cx="1347840" cy="1177920"/>
            </a:xfrm>
            <a:prstGeom prst="pi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SAÍDAS</a:t>
              </a:r>
              <a:endParaRPr b="1" lang="en-US" sz="11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5" name="AutoShape 23"/>
            <p:cNvSpPr/>
            <p:nvPr/>
          </p:nvSpPr>
          <p:spPr>
            <a:xfrm>
              <a:off x="6980040" y="2209680"/>
              <a:ext cx="243828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28842"/>
                <a:gd name="adj5" fmla="val 152013"/>
                <a:gd name="adj6" fmla="val -55532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Macroprocesso</a:t>
              </a:r>
              <a:endParaRPr b="1" lang="en-US" sz="20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6" name="AutoShape 24"/>
            <p:cNvSpPr/>
            <p:nvPr/>
          </p:nvSpPr>
          <p:spPr>
            <a:xfrm>
              <a:off x="7284960" y="4532040"/>
              <a:ext cx="219852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41157"/>
                <a:gd name="adj5" fmla="val -124175"/>
                <a:gd name="adj6" fmla="val -80217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Processos</a:t>
              </a:r>
              <a:endParaRPr b="1" lang="en-US" sz="20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67" name="AutoShape 25"/>
            <p:cNvSpPr/>
            <p:nvPr/>
          </p:nvSpPr>
          <p:spPr>
            <a:xfrm>
              <a:off x="609480" y="4636800"/>
              <a:ext cx="219852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126643"/>
                <a:gd name="adj5" fmla="val 160074"/>
                <a:gd name="adj6" fmla="val 150685"/>
              </a:avLst>
            </a:prstGeom>
            <a:noFill/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Verdana"/>
                  <a:ea typeface="Arial"/>
                </a:rPr>
                <a:t>Subprocessos</a:t>
              </a:r>
              <a:endParaRPr b="1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grpSp>
        <p:nvGrpSpPr>
          <p:cNvPr id="468" name="Group 26"/>
          <p:cNvGrpSpPr/>
          <p:nvPr/>
        </p:nvGrpSpPr>
        <p:grpSpPr>
          <a:xfrm>
            <a:off x="0" y="0"/>
            <a:ext cx="9906120" cy="837720"/>
            <a:chOff x="0" y="0"/>
            <a:chExt cx="9906120" cy="837720"/>
          </a:xfrm>
        </p:grpSpPr>
        <p:sp>
          <p:nvSpPr>
            <p:cNvPr id="469" name="Rectangle 27"/>
            <p:cNvSpPr/>
            <p:nvPr/>
          </p:nvSpPr>
          <p:spPr>
            <a:xfrm>
              <a:off x="0" y="0"/>
              <a:ext cx="9906120" cy="83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380880" y="162720"/>
              <a:ext cx="876312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ahoma"/>
                </a:rPr>
                <a:t>DECOMPOSIÇÃO DE PROCESSOS </a:t>
              </a:r>
              <a:endParaRPr b="1" lang="en-US" sz="2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0" y="0"/>
            <a:ext cx="9906120" cy="685800"/>
            <a:chOff x="0" y="0"/>
            <a:chExt cx="9906120" cy="685800"/>
          </a:xfrm>
        </p:grpSpPr>
        <p:sp>
          <p:nvSpPr>
            <p:cNvPr id="472" name="Rectangle 3"/>
            <p:cNvSpPr/>
            <p:nvPr/>
          </p:nvSpPr>
          <p:spPr>
            <a:xfrm>
              <a:off x="0" y="0"/>
              <a:ext cx="9906120" cy="685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ffffff"/>
                </a:buClr>
                <a:buSzPct val="12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3" name="Rectangle 4"/>
            <p:cNvSpPr/>
            <p:nvPr/>
          </p:nvSpPr>
          <p:spPr>
            <a:xfrm>
              <a:off x="152280" y="76320"/>
              <a:ext cx="96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Tahoma"/>
                </a:rPr>
                <a:t>EXEMPLO DE ÁRVORE DE PROCESSOS</a:t>
              </a:r>
              <a:endParaRPr b="1" lang="en-US" sz="32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905120" y="907920"/>
            <a:ext cx="73692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20:47:06Z</dcterms:created>
  <dc:creator>luciel oliveira</dc:creator>
  <dc:description/>
  <dc:language>en-US</dc:language>
  <cp:lastModifiedBy>ssssss</cp:lastModifiedBy>
  <dcterms:modified xsi:type="dcterms:W3CDTF">2014-08-29T13:19:02Z</dcterms:modified>
  <cp:revision>489</cp:revision>
  <dc:subject/>
  <dc:title>Slide sem título</dc:title>
</cp:coreProperties>
</file>